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Palatino"/>
              </a:rPr>
              <a:t>Click to move the slide</a:t>
            </a:r>
            <a:endParaRPr b="1" lang="en-US" sz="6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0295C-6BB0-4918-9403-DFDC0F7CE7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2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4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2674-33B9-42B5-9EB8-B47A2B87B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F11F-FDED-48CC-8EBD-0250D3FDE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6A00-8C3E-45FB-BBD3-219BEBFBC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5553-5D4B-4188-9F0B-55C272111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74FD7-BD95-4872-9D7C-6D2151BE1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DAC3F-186D-48F8-9F3A-3CA74ED71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9D185-CE87-43A3-B604-50A2647B4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7793E-1D18-4A8C-B842-C6272C802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7584D-E4D5-4C36-920A-96BB7F637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02855-B395-44F7-9394-7D8A48245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5ECDC-0377-4B23-B38C-6BE5FFE5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B38C-1563-40F0-84AE-20A25041D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CCB6D-88BC-49A0-8E9E-54652898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D0046-F971-4B48-917C-2AC85AE5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15D9C-DA0B-491B-9B99-167AEA797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9B0A5-4C18-4583-A7CA-5AC44EA90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E0814-5027-4302-BE6B-46E587AF6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6D02-BDC1-4623-948D-CF1DFCFA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92A6-A6AA-4DA4-8A0B-1E7E00728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93AE-E842-40C3-BEC0-C8BB38321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5541-472A-4018-82F8-6C58C270E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667C-7E38-4528-A121-D7E72049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1B5B-FCE6-4767-BE60-505EE1C5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B00E-9FF6-4CC5-B670-5B685CFD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2743200" y="2236680"/>
              <a:ext cx="6392880" cy="4613400"/>
              <a:chOff x="2743200" y="2236680"/>
              <a:chExt cx="6392880" cy="4613400"/>
            </a:xfrm>
          </p:grpSpPr>
          <p:sp>
            <p:nvSpPr>
              <p:cNvPr id="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129280" y="2236680"/>
                <a:ext cx="3645000" cy="2332080"/>
              </a:xfrm>
              <a:custGeom>
                <a:avLst/>
                <a:gdLst/>
                <a:ahLst/>
                <a:rect l="l" t="t" r="r" b="b"/>
                <a:pathLst>
                  <a:path w="2296" h="1469">
                    <a:moveTo>
                      <a:pt x="771" y="1088"/>
                    </a:moveTo>
                    <a:lnTo>
                      <a:pt x="982" y="1061"/>
                    </a:lnTo>
                    <a:lnTo>
                      <a:pt x="1178" y="1034"/>
                    </a:lnTo>
                    <a:lnTo>
                      <a:pt x="1357" y="1012"/>
                    </a:lnTo>
                    <a:lnTo>
                      <a:pt x="1520" y="985"/>
                    </a:lnTo>
                    <a:lnTo>
                      <a:pt x="1666" y="957"/>
                    </a:lnTo>
                    <a:lnTo>
                      <a:pt x="1796" y="930"/>
                    </a:lnTo>
                    <a:lnTo>
                      <a:pt x="1916" y="897"/>
                    </a:lnTo>
                    <a:lnTo>
                      <a:pt x="2013" y="870"/>
                    </a:lnTo>
                    <a:lnTo>
                      <a:pt x="2100" y="832"/>
                    </a:lnTo>
                    <a:lnTo>
                      <a:pt x="2171" y="800"/>
                    </a:lnTo>
                    <a:lnTo>
                      <a:pt x="2220" y="756"/>
                    </a:lnTo>
                    <a:lnTo>
                      <a:pt x="2263" y="712"/>
                    </a:lnTo>
                    <a:lnTo>
                      <a:pt x="2285" y="669"/>
                    </a:lnTo>
                    <a:lnTo>
                      <a:pt x="2296" y="614"/>
                    </a:lnTo>
                    <a:lnTo>
                      <a:pt x="2290" y="560"/>
                    </a:lnTo>
                    <a:lnTo>
                      <a:pt x="2269" y="500"/>
                    </a:lnTo>
                    <a:lnTo>
                      <a:pt x="2241" y="457"/>
                    </a:lnTo>
                    <a:lnTo>
                      <a:pt x="2198" y="408"/>
                    </a:lnTo>
                    <a:lnTo>
                      <a:pt x="2144" y="364"/>
                    </a:lnTo>
                    <a:lnTo>
                      <a:pt x="2079" y="321"/>
                    </a:lnTo>
                    <a:lnTo>
                      <a:pt x="2008" y="277"/>
                    </a:lnTo>
                    <a:lnTo>
                      <a:pt x="1927" y="234"/>
                    </a:lnTo>
                    <a:lnTo>
                      <a:pt x="1769" y="157"/>
                    </a:lnTo>
                    <a:lnTo>
                      <a:pt x="1688" y="125"/>
                    </a:lnTo>
                    <a:lnTo>
                      <a:pt x="1612" y="92"/>
                    </a:lnTo>
                    <a:lnTo>
                      <a:pt x="1536" y="65"/>
                    </a:lnTo>
                    <a:lnTo>
                      <a:pt x="1476" y="43"/>
                    </a:lnTo>
                    <a:lnTo>
                      <a:pt x="1422" y="27"/>
                    </a:lnTo>
                    <a:lnTo>
                      <a:pt x="1384" y="10"/>
                    </a:lnTo>
                    <a:lnTo>
                      <a:pt x="1357" y="5"/>
                    </a:lnTo>
                    <a:lnTo>
                      <a:pt x="1346" y="0"/>
                    </a:lnTo>
                    <a:lnTo>
                      <a:pt x="1498" y="54"/>
                    </a:lnTo>
                    <a:lnTo>
                      <a:pt x="1655" y="119"/>
                    </a:lnTo>
                    <a:lnTo>
                      <a:pt x="1807" y="185"/>
                    </a:lnTo>
                    <a:lnTo>
                      <a:pt x="1948" y="255"/>
                    </a:lnTo>
                    <a:lnTo>
                      <a:pt x="2013" y="288"/>
                    </a:lnTo>
                    <a:lnTo>
                      <a:pt x="2068" y="326"/>
                    </a:lnTo>
                    <a:lnTo>
                      <a:pt x="2122" y="364"/>
                    </a:lnTo>
                    <a:lnTo>
                      <a:pt x="2171" y="402"/>
                    </a:lnTo>
                    <a:lnTo>
                      <a:pt x="2209" y="440"/>
                    </a:lnTo>
                    <a:lnTo>
                      <a:pt x="2236" y="478"/>
                    </a:lnTo>
                    <a:lnTo>
                      <a:pt x="2252" y="522"/>
                    </a:lnTo>
                    <a:lnTo>
                      <a:pt x="2263" y="560"/>
                    </a:lnTo>
                    <a:lnTo>
                      <a:pt x="2258" y="598"/>
                    </a:lnTo>
                    <a:lnTo>
                      <a:pt x="2241" y="636"/>
                    </a:lnTo>
                    <a:lnTo>
                      <a:pt x="2214" y="669"/>
                    </a:lnTo>
                    <a:lnTo>
                      <a:pt x="2171" y="702"/>
                    </a:lnTo>
                    <a:lnTo>
                      <a:pt x="2122" y="729"/>
                    </a:lnTo>
                    <a:lnTo>
                      <a:pt x="2062" y="756"/>
                    </a:lnTo>
                    <a:lnTo>
                      <a:pt x="1997" y="778"/>
                    </a:lnTo>
                    <a:lnTo>
                      <a:pt x="1921" y="800"/>
                    </a:lnTo>
                    <a:lnTo>
                      <a:pt x="1834" y="821"/>
                    </a:lnTo>
                    <a:lnTo>
                      <a:pt x="1748" y="843"/>
                    </a:lnTo>
                    <a:lnTo>
                      <a:pt x="1552" y="876"/>
                    </a:lnTo>
                    <a:lnTo>
                      <a:pt x="1351" y="908"/>
                    </a:lnTo>
                    <a:lnTo>
                      <a:pt x="1134" y="941"/>
                    </a:lnTo>
                    <a:lnTo>
                      <a:pt x="923" y="968"/>
                    </a:lnTo>
                    <a:lnTo>
                      <a:pt x="716" y="995"/>
                    </a:lnTo>
                    <a:lnTo>
                      <a:pt x="521" y="1028"/>
                    </a:lnTo>
                    <a:lnTo>
                      <a:pt x="434" y="1044"/>
                    </a:lnTo>
                    <a:lnTo>
                      <a:pt x="353" y="1066"/>
                    </a:lnTo>
                    <a:lnTo>
                      <a:pt x="277" y="1082"/>
                    </a:lnTo>
                    <a:lnTo>
                      <a:pt x="206" y="1104"/>
                    </a:lnTo>
                    <a:lnTo>
                      <a:pt x="147" y="1126"/>
                    </a:lnTo>
                    <a:lnTo>
                      <a:pt x="92" y="1148"/>
                    </a:lnTo>
                    <a:lnTo>
                      <a:pt x="54" y="1175"/>
                    </a:lnTo>
                    <a:lnTo>
                      <a:pt x="22" y="1202"/>
                    </a:lnTo>
                    <a:lnTo>
                      <a:pt x="6" y="1229"/>
                    </a:lnTo>
                    <a:lnTo>
                      <a:pt x="0" y="1262"/>
                    </a:lnTo>
                    <a:lnTo>
                      <a:pt x="11" y="1295"/>
                    </a:lnTo>
                    <a:lnTo>
                      <a:pt x="27" y="1327"/>
                    </a:lnTo>
                    <a:lnTo>
                      <a:pt x="54" y="1355"/>
                    </a:lnTo>
                    <a:lnTo>
                      <a:pt x="98" y="1382"/>
                    </a:lnTo>
                    <a:lnTo>
                      <a:pt x="141" y="1404"/>
                    </a:lnTo>
                    <a:lnTo>
                      <a:pt x="196" y="1425"/>
                    </a:lnTo>
                    <a:lnTo>
                      <a:pt x="261" y="1447"/>
                    </a:lnTo>
                    <a:lnTo>
                      <a:pt x="326" y="1469"/>
                    </a:lnTo>
                    <a:lnTo>
                      <a:pt x="266" y="1442"/>
                    </a:lnTo>
                    <a:lnTo>
                      <a:pt x="217" y="1414"/>
                    </a:lnTo>
                    <a:lnTo>
                      <a:pt x="174" y="1387"/>
                    </a:lnTo>
                    <a:lnTo>
                      <a:pt x="147" y="1360"/>
                    </a:lnTo>
                    <a:lnTo>
                      <a:pt x="125" y="1333"/>
                    </a:lnTo>
                    <a:lnTo>
                      <a:pt x="120" y="1306"/>
                    </a:lnTo>
                    <a:lnTo>
                      <a:pt x="125" y="1278"/>
                    </a:lnTo>
                    <a:lnTo>
                      <a:pt x="141" y="1257"/>
                    </a:lnTo>
                    <a:lnTo>
                      <a:pt x="174" y="1229"/>
                    </a:lnTo>
                    <a:lnTo>
                      <a:pt x="212" y="1208"/>
                    </a:lnTo>
                    <a:lnTo>
                      <a:pt x="272" y="1186"/>
                    </a:lnTo>
                    <a:lnTo>
                      <a:pt x="342" y="1164"/>
                    </a:lnTo>
                    <a:lnTo>
                      <a:pt x="423" y="1142"/>
                    </a:lnTo>
                    <a:lnTo>
                      <a:pt x="527" y="1121"/>
                    </a:lnTo>
                    <a:lnTo>
                      <a:pt x="641" y="1104"/>
                    </a:lnTo>
                    <a:lnTo>
                      <a:pt x="771" y="1088"/>
                    </a:lnTo>
                    <a:lnTo>
                      <a:pt x="771" y="10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latino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3201C-E0C5-49E9-A68A-E9D11B717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2743200" y="2236680"/>
              <a:ext cx="6392880" cy="4613400"/>
              <a:chOff x="2743200" y="2236680"/>
              <a:chExt cx="6392880" cy="4613400"/>
            </a:xfrm>
          </p:grpSpPr>
          <p:sp>
            <p:nvSpPr>
              <p:cNvPr id="5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129280" y="2236680"/>
                <a:ext cx="3645000" cy="2332080"/>
              </a:xfrm>
              <a:custGeom>
                <a:avLst/>
                <a:gdLst/>
                <a:ahLst/>
                <a:rect l="l" t="t" r="r" b="b"/>
                <a:pathLst>
                  <a:path w="2296" h="1469">
                    <a:moveTo>
                      <a:pt x="771" y="1088"/>
                    </a:moveTo>
                    <a:lnTo>
                      <a:pt x="982" y="1061"/>
                    </a:lnTo>
                    <a:lnTo>
                      <a:pt x="1178" y="1034"/>
                    </a:lnTo>
                    <a:lnTo>
                      <a:pt x="1357" y="1012"/>
                    </a:lnTo>
                    <a:lnTo>
                      <a:pt x="1520" y="985"/>
                    </a:lnTo>
                    <a:lnTo>
                      <a:pt x="1666" y="957"/>
                    </a:lnTo>
                    <a:lnTo>
                      <a:pt x="1796" y="930"/>
                    </a:lnTo>
                    <a:lnTo>
                      <a:pt x="1916" y="897"/>
                    </a:lnTo>
                    <a:lnTo>
                      <a:pt x="2013" y="870"/>
                    </a:lnTo>
                    <a:lnTo>
                      <a:pt x="2100" y="832"/>
                    </a:lnTo>
                    <a:lnTo>
                      <a:pt x="2171" y="800"/>
                    </a:lnTo>
                    <a:lnTo>
                      <a:pt x="2220" y="756"/>
                    </a:lnTo>
                    <a:lnTo>
                      <a:pt x="2263" y="712"/>
                    </a:lnTo>
                    <a:lnTo>
                      <a:pt x="2285" y="669"/>
                    </a:lnTo>
                    <a:lnTo>
                      <a:pt x="2296" y="614"/>
                    </a:lnTo>
                    <a:lnTo>
                      <a:pt x="2290" y="560"/>
                    </a:lnTo>
                    <a:lnTo>
                      <a:pt x="2269" y="500"/>
                    </a:lnTo>
                    <a:lnTo>
                      <a:pt x="2241" y="457"/>
                    </a:lnTo>
                    <a:lnTo>
                      <a:pt x="2198" y="408"/>
                    </a:lnTo>
                    <a:lnTo>
                      <a:pt x="2144" y="364"/>
                    </a:lnTo>
                    <a:lnTo>
                      <a:pt x="2079" y="321"/>
                    </a:lnTo>
                    <a:lnTo>
                      <a:pt x="2008" y="277"/>
                    </a:lnTo>
                    <a:lnTo>
                      <a:pt x="1927" y="234"/>
                    </a:lnTo>
                    <a:lnTo>
                      <a:pt x="1769" y="157"/>
                    </a:lnTo>
                    <a:lnTo>
                      <a:pt x="1688" y="125"/>
                    </a:lnTo>
                    <a:lnTo>
                      <a:pt x="1612" y="92"/>
                    </a:lnTo>
                    <a:lnTo>
                      <a:pt x="1536" y="65"/>
                    </a:lnTo>
                    <a:lnTo>
                      <a:pt x="1476" y="43"/>
                    </a:lnTo>
                    <a:lnTo>
                      <a:pt x="1422" y="27"/>
                    </a:lnTo>
                    <a:lnTo>
                      <a:pt x="1384" y="10"/>
                    </a:lnTo>
                    <a:lnTo>
                      <a:pt x="1357" y="5"/>
                    </a:lnTo>
                    <a:lnTo>
                      <a:pt x="1346" y="0"/>
                    </a:lnTo>
                    <a:lnTo>
                      <a:pt x="1498" y="54"/>
                    </a:lnTo>
                    <a:lnTo>
                      <a:pt x="1655" y="119"/>
                    </a:lnTo>
                    <a:lnTo>
                      <a:pt x="1807" y="185"/>
                    </a:lnTo>
                    <a:lnTo>
                      <a:pt x="1948" y="255"/>
                    </a:lnTo>
                    <a:lnTo>
                      <a:pt x="2013" y="288"/>
                    </a:lnTo>
                    <a:lnTo>
                      <a:pt x="2068" y="326"/>
                    </a:lnTo>
                    <a:lnTo>
                      <a:pt x="2122" y="364"/>
                    </a:lnTo>
                    <a:lnTo>
                      <a:pt x="2171" y="402"/>
                    </a:lnTo>
                    <a:lnTo>
                      <a:pt x="2209" y="440"/>
                    </a:lnTo>
                    <a:lnTo>
                      <a:pt x="2236" y="478"/>
                    </a:lnTo>
                    <a:lnTo>
                      <a:pt x="2252" y="522"/>
                    </a:lnTo>
                    <a:lnTo>
                      <a:pt x="2263" y="560"/>
                    </a:lnTo>
                    <a:lnTo>
                      <a:pt x="2258" y="598"/>
                    </a:lnTo>
                    <a:lnTo>
                      <a:pt x="2241" y="636"/>
                    </a:lnTo>
                    <a:lnTo>
                      <a:pt x="2214" y="669"/>
                    </a:lnTo>
                    <a:lnTo>
                      <a:pt x="2171" y="702"/>
                    </a:lnTo>
                    <a:lnTo>
                      <a:pt x="2122" y="729"/>
                    </a:lnTo>
                    <a:lnTo>
                      <a:pt x="2062" y="756"/>
                    </a:lnTo>
                    <a:lnTo>
                      <a:pt x="1997" y="778"/>
                    </a:lnTo>
                    <a:lnTo>
                      <a:pt x="1921" y="800"/>
                    </a:lnTo>
                    <a:lnTo>
                      <a:pt x="1834" y="821"/>
                    </a:lnTo>
                    <a:lnTo>
                      <a:pt x="1748" y="843"/>
                    </a:lnTo>
                    <a:lnTo>
                      <a:pt x="1552" y="876"/>
                    </a:lnTo>
                    <a:lnTo>
                      <a:pt x="1351" y="908"/>
                    </a:lnTo>
                    <a:lnTo>
                      <a:pt x="1134" y="941"/>
                    </a:lnTo>
                    <a:lnTo>
                      <a:pt x="923" y="968"/>
                    </a:lnTo>
                    <a:lnTo>
                      <a:pt x="716" y="995"/>
                    </a:lnTo>
                    <a:lnTo>
                      <a:pt x="521" y="1028"/>
                    </a:lnTo>
                    <a:lnTo>
                      <a:pt x="434" y="1044"/>
                    </a:lnTo>
                    <a:lnTo>
                      <a:pt x="353" y="1066"/>
                    </a:lnTo>
                    <a:lnTo>
                      <a:pt x="277" y="1082"/>
                    </a:lnTo>
                    <a:lnTo>
                      <a:pt x="206" y="1104"/>
                    </a:lnTo>
                    <a:lnTo>
                      <a:pt x="147" y="1126"/>
                    </a:lnTo>
                    <a:lnTo>
                      <a:pt x="92" y="1148"/>
                    </a:lnTo>
                    <a:lnTo>
                      <a:pt x="54" y="1175"/>
                    </a:lnTo>
                    <a:lnTo>
                      <a:pt x="22" y="1202"/>
                    </a:lnTo>
                    <a:lnTo>
                      <a:pt x="6" y="1229"/>
                    </a:lnTo>
                    <a:lnTo>
                      <a:pt x="0" y="1262"/>
                    </a:lnTo>
                    <a:lnTo>
                      <a:pt x="11" y="1295"/>
                    </a:lnTo>
                    <a:lnTo>
                      <a:pt x="27" y="1327"/>
                    </a:lnTo>
                    <a:lnTo>
                      <a:pt x="54" y="1355"/>
                    </a:lnTo>
                    <a:lnTo>
                      <a:pt x="98" y="1382"/>
                    </a:lnTo>
                    <a:lnTo>
                      <a:pt x="141" y="1404"/>
                    </a:lnTo>
                    <a:lnTo>
                      <a:pt x="196" y="1425"/>
                    </a:lnTo>
                    <a:lnTo>
                      <a:pt x="261" y="1447"/>
                    </a:lnTo>
                    <a:lnTo>
                      <a:pt x="326" y="1469"/>
                    </a:lnTo>
                    <a:lnTo>
                      <a:pt x="266" y="1442"/>
                    </a:lnTo>
                    <a:lnTo>
                      <a:pt x="217" y="1414"/>
                    </a:lnTo>
                    <a:lnTo>
                      <a:pt x="174" y="1387"/>
                    </a:lnTo>
                    <a:lnTo>
                      <a:pt x="147" y="1360"/>
                    </a:lnTo>
                    <a:lnTo>
                      <a:pt x="125" y="1333"/>
                    </a:lnTo>
                    <a:lnTo>
                      <a:pt x="120" y="1306"/>
                    </a:lnTo>
                    <a:lnTo>
                      <a:pt x="125" y="1278"/>
                    </a:lnTo>
                    <a:lnTo>
                      <a:pt x="141" y="1257"/>
                    </a:lnTo>
                    <a:lnTo>
                      <a:pt x="174" y="1229"/>
                    </a:lnTo>
                    <a:lnTo>
                      <a:pt x="212" y="1208"/>
                    </a:lnTo>
                    <a:lnTo>
                      <a:pt x="272" y="1186"/>
                    </a:lnTo>
                    <a:lnTo>
                      <a:pt x="342" y="1164"/>
                    </a:lnTo>
                    <a:lnTo>
                      <a:pt x="423" y="1142"/>
                    </a:lnTo>
                    <a:lnTo>
                      <a:pt x="527" y="1121"/>
                    </a:lnTo>
                    <a:lnTo>
                      <a:pt x="641" y="1104"/>
                    </a:lnTo>
                    <a:lnTo>
                      <a:pt x="771" y="1088"/>
                    </a:lnTo>
                    <a:lnTo>
                      <a:pt x="771" y="10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Palatino"/>
              </a:rPr>
              <a:t>Click to edit the title text format</a:t>
            </a:r>
            <a:endParaRPr b="1" lang="en-US" sz="6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99EC8-C346-4AE3-B74C-06F22F910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Palatino"/>
              </a:rPr>
              <a:t>Warm – up:</a:t>
            </a: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6840" y="15238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olve using the order of operations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609480" indent="-609480">
              <a:spcBef>
                <a:spcPts val="799"/>
              </a:spcBef>
              <a:buClr>
                <a:srgbClr val="6600ff"/>
              </a:buClr>
              <a:buSzPct val="70000"/>
              <a:buFont typeface="Palatin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  <a:ea typeface="Arial"/>
              </a:rPr>
              <a:t>11 – 6 – 12 ÷ 4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609480" indent="-609480">
              <a:spcBef>
                <a:spcPts val="799"/>
              </a:spcBef>
              <a:buClr>
                <a:srgbClr val="6600ff"/>
              </a:buClr>
              <a:buSzPct val="70000"/>
              <a:buFont typeface="Palatin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  <a:ea typeface="Arial"/>
              </a:rPr>
              <a:t>14 + 3 x 5 - 2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609480" indent="-609480">
              <a:spcBef>
                <a:spcPts val="799"/>
              </a:spcBef>
              <a:buClr>
                <a:srgbClr val="6600ff"/>
              </a:buClr>
              <a:buSzPct val="70000"/>
              <a:buFont typeface="Palatin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  <a:ea typeface="Arial"/>
              </a:rPr>
              <a:t>8 x (7 + 3) ÷ 2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  <a:ea typeface="Arial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  <a:ea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Palatino"/>
                <a:ea typeface="Arial"/>
              </a:rPr>
              <a:t>8 + 4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  <a:ea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  <a:ea typeface="Arial"/>
              </a:rPr>
              <a:t>17-11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9" name=""/>
          <p:cNvSpPr/>
          <p:nvPr/>
        </p:nvSpPr>
        <p:spPr>
          <a:xfrm>
            <a:off x="1598760" y="2517840"/>
            <a:ext cx="2054160" cy="455400"/>
          </a:xfrm>
          <a:custGeom>
            <a:avLst/>
            <a:gdLst/>
            <a:ahLst/>
            <a:rect l="l" t="t" r="r" b="b"/>
            <a:pathLst>
              <a:path w="5706" h="1266">
                <a:moveTo>
                  <a:pt x="8533" y="7169"/>
                </a:moveTo>
                <a:cubicBezTo>
                  <a:pt x="8526" y="7236"/>
                  <a:pt x="8515" y="7300"/>
                  <a:pt x="8508" y="7367"/>
                </a:cubicBezTo>
                <a:cubicBezTo>
                  <a:pt x="8664" y="7337"/>
                  <a:pt x="8821" y="7313"/>
                  <a:pt x="8979" y="7293"/>
                </a:cubicBezTo>
                <a:cubicBezTo>
                  <a:pt x="9244" y="7259"/>
                  <a:pt x="9510" y="7225"/>
                  <a:pt x="9773" y="7193"/>
                </a:cubicBezTo>
                <a:cubicBezTo>
                  <a:pt x="9828" y="7186"/>
                  <a:pt x="9963" y="7190"/>
                  <a:pt x="10021" y="7169"/>
                </a:cubicBezTo>
                <a:cubicBezTo>
                  <a:pt x="10094" y="7143"/>
                  <a:pt x="10037" y="7157"/>
                  <a:pt x="10120" y="7169"/>
                </a:cubicBezTo>
                <a:cubicBezTo>
                  <a:pt x="10149" y="7121"/>
                  <a:pt x="10137" y="7111"/>
                  <a:pt x="10120" y="7020"/>
                </a:cubicBezTo>
                <a:cubicBezTo>
                  <a:pt x="10120" y="7012"/>
                  <a:pt x="10120" y="7003"/>
                  <a:pt x="10120" y="6995"/>
                </a:cubicBezTo>
              </a:path>
              <a:path w="5706" h="1266">
                <a:moveTo>
                  <a:pt x="8930" y="7615"/>
                </a:moveTo>
                <a:cubicBezTo>
                  <a:pt x="9033" y="7545"/>
                  <a:pt x="9149" y="7495"/>
                  <a:pt x="9277" y="7541"/>
                </a:cubicBezTo>
                <a:cubicBezTo>
                  <a:pt x="9455" y="7605"/>
                  <a:pt x="9227" y="7778"/>
                  <a:pt x="9178" y="7813"/>
                </a:cubicBezTo>
                <a:cubicBezTo>
                  <a:pt x="9170" y="7821"/>
                  <a:pt x="9161" y="7830"/>
                  <a:pt x="9153" y="7838"/>
                </a:cubicBezTo>
                <a:cubicBezTo>
                  <a:pt x="9228" y="7793"/>
                  <a:pt x="9353" y="7781"/>
                  <a:pt x="9401" y="7888"/>
                </a:cubicBezTo>
                <a:cubicBezTo>
                  <a:pt x="9505" y="8121"/>
                  <a:pt x="9104" y="8145"/>
                  <a:pt x="8979" y="8136"/>
                </a:cubicBezTo>
                <a:cubicBezTo>
                  <a:pt x="8954" y="8128"/>
                  <a:pt x="8930" y="8119"/>
                  <a:pt x="8905" y="8111"/>
                </a:cubicBezTo>
              </a:path>
              <a:path w="5706" h="1266">
                <a:moveTo>
                  <a:pt x="4465" y="7640"/>
                </a:moveTo>
                <a:cubicBezTo>
                  <a:pt x="4465" y="7825"/>
                  <a:pt x="4455" y="8003"/>
                  <a:pt x="4440" y="8186"/>
                </a:cubicBezTo>
                <a:cubicBezTo>
                  <a:pt x="4435" y="8246"/>
                  <a:pt x="4423" y="8263"/>
                  <a:pt x="4465" y="8235"/>
                </a:cubicBezTo>
              </a:path>
              <a:path w="5706" h="1266">
                <a:moveTo>
                  <a:pt x="4862" y="7665"/>
                </a:moveTo>
                <a:cubicBezTo>
                  <a:pt x="4885" y="7823"/>
                  <a:pt x="4873" y="7952"/>
                  <a:pt x="4862" y="8111"/>
                </a:cubicBezTo>
                <a:cubicBezTo>
                  <a:pt x="4853" y="8248"/>
                  <a:pt x="4830" y="8247"/>
                  <a:pt x="4936" y="8235"/>
                </a:cubicBezTo>
              </a:path>
              <a:path w="5706" h="1266">
                <a:moveTo>
                  <a:pt x="5581" y="7938"/>
                </a:moveTo>
                <a:cubicBezTo>
                  <a:pt x="5664" y="7923"/>
                  <a:pt x="5724" y="7913"/>
                  <a:pt x="5804" y="7913"/>
                </a:cubicBezTo>
              </a:path>
              <a:path w="5706" h="1266">
                <a:moveTo>
                  <a:pt x="6400" y="7590"/>
                </a:moveTo>
                <a:cubicBezTo>
                  <a:pt x="6377" y="7730"/>
                  <a:pt x="6322" y="7873"/>
                  <a:pt x="6300" y="8012"/>
                </a:cubicBezTo>
                <a:cubicBezTo>
                  <a:pt x="6279" y="8145"/>
                  <a:pt x="6355" y="8264"/>
                  <a:pt x="6499" y="8260"/>
                </a:cubicBezTo>
                <a:cubicBezTo>
                  <a:pt x="6631" y="8257"/>
                  <a:pt x="6807" y="8214"/>
                  <a:pt x="6896" y="8111"/>
                </a:cubicBezTo>
                <a:cubicBezTo>
                  <a:pt x="6938" y="8048"/>
                  <a:pt x="6954" y="8036"/>
                  <a:pt x="6945" y="7987"/>
                </a:cubicBezTo>
                <a:cubicBezTo>
                  <a:pt x="6816" y="7940"/>
                  <a:pt x="6787" y="7919"/>
                  <a:pt x="6697" y="8037"/>
                </a:cubicBezTo>
                <a:cubicBezTo>
                  <a:pt x="6666" y="8078"/>
                  <a:pt x="6583" y="8172"/>
                  <a:pt x="6623" y="8235"/>
                </a:cubicBezTo>
                <a:cubicBezTo>
                  <a:pt x="6658" y="8235"/>
                  <a:pt x="6675" y="8240"/>
                  <a:pt x="6697" y="8260"/>
                </a:cubicBezTo>
              </a:path>
              <a:path w="5706" h="1266">
                <a:moveTo>
                  <a:pt x="7466" y="7838"/>
                </a:moveTo>
                <a:cubicBezTo>
                  <a:pt x="7562" y="7824"/>
                  <a:pt x="7699" y="7815"/>
                  <a:pt x="7789" y="7789"/>
                </a:cubicBezTo>
                <a:cubicBezTo>
                  <a:pt x="7825" y="7779"/>
                  <a:pt x="7818" y="7764"/>
                  <a:pt x="7863" y="77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812960" y="2973240"/>
            <a:ext cx="2027160" cy="438120"/>
          </a:xfrm>
          <a:custGeom>
            <a:avLst/>
            <a:gdLst/>
            <a:ahLst/>
            <a:rect l="l" t="t" r="r" b="b"/>
            <a:pathLst>
              <a:path w="5632" h="1216">
                <a:moveTo>
                  <a:pt x="5035" y="8384"/>
                </a:moveTo>
                <a:cubicBezTo>
                  <a:pt x="5060" y="8434"/>
                  <a:pt x="5060" y="8472"/>
                  <a:pt x="5060" y="8533"/>
                </a:cubicBezTo>
                <a:cubicBezTo>
                  <a:pt x="5188" y="8511"/>
                  <a:pt x="5327" y="8468"/>
                  <a:pt x="5457" y="8458"/>
                </a:cubicBezTo>
                <a:cubicBezTo>
                  <a:pt x="5639" y="8443"/>
                  <a:pt x="5823" y="8423"/>
                  <a:pt x="6003" y="8409"/>
                </a:cubicBezTo>
                <a:cubicBezTo>
                  <a:pt x="6087" y="8402"/>
                  <a:pt x="6148" y="8395"/>
                  <a:pt x="6226" y="8384"/>
                </a:cubicBezTo>
                <a:cubicBezTo>
                  <a:pt x="6293" y="8374"/>
                  <a:pt x="6339" y="8399"/>
                  <a:pt x="6400" y="8409"/>
                </a:cubicBezTo>
                <a:cubicBezTo>
                  <a:pt x="6429" y="8414"/>
                  <a:pt x="6468" y="8409"/>
                  <a:pt x="6499" y="8409"/>
                </a:cubicBezTo>
                <a:cubicBezTo>
                  <a:pt x="6467" y="8345"/>
                  <a:pt x="6455" y="8314"/>
                  <a:pt x="6449" y="8260"/>
                </a:cubicBezTo>
              </a:path>
              <a:path w="5632" h="1216">
                <a:moveTo>
                  <a:pt x="6251" y="8682"/>
                </a:moveTo>
                <a:cubicBezTo>
                  <a:pt x="6143" y="8682"/>
                  <a:pt x="6036" y="8682"/>
                  <a:pt x="5928" y="8682"/>
                </a:cubicBezTo>
                <a:cubicBezTo>
                  <a:pt x="5941" y="8760"/>
                  <a:pt x="5953" y="8823"/>
                  <a:pt x="5953" y="8905"/>
                </a:cubicBezTo>
                <a:cubicBezTo>
                  <a:pt x="5953" y="8913"/>
                  <a:pt x="5953" y="8922"/>
                  <a:pt x="5953" y="8930"/>
                </a:cubicBezTo>
                <a:cubicBezTo>
                  <a:pt x="6058" y="8930"/>
                  <a:pt x="6107" y="8852"/>
                  <a:pt x="6226" y="8880"/>
                </a:cubicBezTo>
                <a:cubicBezTo>
                  <a:pt x="6424" y="8927"/>
                  <a:pt x="6231" y="9120"/>
                  <a:pt x="6152" y="9153"/>
                </a:cubicBezTo>
                <a:cubicBezTo>
                  <a:pt x="6112" y="9169"/>
                  <a:pt x="5850" y="9234"/>
                  <a:pt x="5904" y="9153"/>
                </a:cubicBezTo>
              </a:path>
              <a:path w="5632" h="1216">
                <a:moveTo>
                  <a:pt x="6722" y="8905"/>
                </a:moveTo>
                <a:cubicBezTo>
                  <a:pt x="6834" y="8849"/>
                  <a:pt x="6942" y="8855"/>
                  <a:pt x="7069" y="8855"/>
                </a:cubicBezTo>
              </a:path>
              <a:path w="5632" h="1216">
                <a:moveTo>
                  <a:pt x="7441" y="8682"/>
                </a:moveTo>
                <a:cubicBezTo>
                  <a:pt x="7499" y="8653"/>
                  <a:pt x="7696" y="8551"/>
                  <a:pt x="7739" y="8657"/>
                </a:cubicBezTo>
                <a:cubicBezTo>
                  <a:pt x="7783" y="8766"/>
                  <a:pt x="7675" y="8839"/>
                  <a:pt x="7615" y="8905"/>
                </a:cubicBezTo>
                <a:cubicBezTo>
                  <a:pt x="7678" y="8874"/>
                  <a:pt x="7830" y="8865"/>
                  <a:pt x="7838" y="8979"/>
                </a:cubicBezTo>
                <a:cubicBezTo>
                  <a:pt x="7853" y="9196"/>
                  <a:pt x="7569" y="9167"/>
                  <a:pt x="7441" y="9153"/>
                </a:cubicBezTo>
              </a:path>
              <a:path w="5632" h="1216">
                <a:moveTo>
                  <a:pt x="8781" y="8830"/>
                </a:moveTo>
                <a:cubicBezTo>
                  <a:pt x="8841" y="8820"/>
                  <a:pt x="8892" y="8806"/>
                  <a:pt x="8954" y="8806"/>
                </a:cubicBezTo>
              </a:path>
              <a:path w="5632" h="1216">
                <a:moveTo>
                  <a:pt x="8806" y="8979"/>
                </a:moveTo>
                <a:cubicBezTo>
                  <a:pt x="8872" y="8979"/>
                  <a:pt x="8938" y="8979"/>
                  <a:pt x="9004" y="8979"/>
                </a:cubicBezTo>
              </a:path>
              <a:path w="5632" h="1216">
                <a:moveTo>
                  <a:pt x="9649" y="8657"/>
                </a:moveTo>
                <a:cubicBezTo>
                  <a:pt x="9660" y="8601"/>
                  <a:pt x="9692" y="8536"/>
                  <a:pt x="9748" y="8508"/>
                </a:cubicBezTo>
                <a:cubicBezTo>
                  <a:pt x="9807" y="8479"/>
                  <a:pt x="9893" y="8519"/>
                  <a:pt x="9947" y="8533"/>
                </a:cubicBezTo>
                <a:cubicBezTo>
                  <a:pt x="10012" y="8549"/>
                  <a:pt x="10010" y="8631"/>
                  <a:pt x="9971" y="8682"/>
                </a:cubicBezTo>
                <a:cubicBezTo>
                  <a:pt x="9890" y="8786"/>
                  <a:pt x="9707" y="8822"/>
                  <a:pt x="9649" y="8930"/>
                </a:cubicBezTo>
                <a:cubicBezTo>
                  <a:pt x="9627" y="8970"/>
                  <a:pt x="9586" y="9081"/>
                  <a:pt x="9575" y="9128"/>
                </a:cubicBezTo>
                <a:cubicBezTo>
                  <a:pt x="9629" y="9101"/>
                  <a:pt x="9723" y="8979"/>
                  <a:pt x="9798" y="8979"/>
                </a:cubicBezTo>
                <a:cubicBezTo>
                  <a:pt x="9860" y="8979"/>
                  <a:pt x="9928" y="9071"/>
                  <a:pt x="9996" y="9079"/>
                </a:cubicBezTo>
                <a:cubicBezTo>
                  <a:pt x="10012" y="9081"/>
                  <a:pt x="10136" y="9066"/>
                  <a:pt x="10145" y="9054"/>
                </a:cubicBezTo>
                <a:cubicBezTo>
                  <a:pt x="10145" y="9046"/>
                  <a:pt x="10145" y="9037"/>
                  <a:pt x="10145" y="9029"/>
                </a:cubicBezTo>
              </a:path>
              <a:path w="5632" h="1216">
                <a:moveTo>
                  <a:pt x="9203" y="9277"/>
                </a:moveTo>
                <a:cubicBezTo>
                  <a:pt x="9328" y="9347"/>
                  <a:pt x="9433" y="9394"/>
                  <a:pt x="9575" y="9426"/>
                </a:cubicBezTo>
                <a:cubicBezTo>
                  <a:pt x="9813" y="9479"/>
                  <a:pt x="10070" y="9444"/>
                  <a:pt x="10294" y="9351"/>
                </a:cubicBezTo>
                <a:cubicBezTo>
                  <a:pt x="10454" y="9285"/>
                  <a:pt x="10579" y="9187"/>
                  <a:pt x="10641" y="9029"/>
                </a:cubicBezTo>
                <a:cubicBezTo>
                  <a:pt x="10690" y="8905"/>
                  <a:pt x="10698" y="8669"/>
                  <a:pt x="10616" y="8558"/>
                </a:cubicBezTo>
                <a:cubicBezTo>
                  <a:pt x="10511" y="8416"/>
                  <a:pt x="10260" y="8348"/>
                  <a:pt x="10096" y="8334"/>
                </a:cubicBezTo>
                <a:cubicBezTo>
                  <a:pt x="9856" y="8313"/>
                  <a:pt x="9662" y="8381"/>
                  <a:pt x="9451" y="8483"/>
                </a:cubicBezTo>
                <a:cubicBezTo>
                  <a:pt x="9187" y="8611"/>
                  <a:pt x="9073" y="8743"/>
                  <a:pt x="9103" y="9054"/>
                </a:cubicBezTo>
                <a:cubicBezTo>
                  <a:pt x="9130" y="9338"/>
                  <a:pt x="9281" y="9366"/>
                  <a:pt x="9500" y="94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90760" y="3741840"/>
            <a:ext cx="1876320" cy="509400"/>
          </a:xfrm>
          <a:custGeom>
            <a:avLst/>
            <a:gdLst/>
            <a:ahLst/>
            <a:rect l="l" t="t" r="r" b="b"/>
            <a:pathLst>
              <a:path w="5210" h="1415">
                <a:moveTo>
                  <a:pt x="6052" y="10517"/>
                </a:moveTo>
                <a:cubicBezTo>
                  <a:pt x="6047" y="10595"/>
                  <a:pt x="6055" y="10694"/>
                  <a:pt x="6028" y="10765"/>
                </a:cubicBezTo>
                <a:cubicBezTo>
                  <a:pt x="6020" y="10773"/>
                  <a:pt x="6011" y="10782"/>
                  <a:pt x="6003" y="10790"/>
                </a:cubicBezTo>
                <a:cubicBezTo>
                  <a:pt x="6268" y="10769"/>
                  <a:pt x="6530" y="10753"/>
                  <a:pt x="6796" y="10740"/>
                </a:cubicBezTo>
                <a:cubicBezTo>
                  <a:pt x="7086" y="10726"/>
                  <a:pt x="7353" y="10729"/>
                  <a:pt x="7640" y="10740"/>
                </a:cubicBezTo>
                <a:cubicBezTo>
                  <a:pt x="7665" y="10740"/>
                  <a:pt x="7673" y="10740"/>
                  <a:pt x="7689" y="10740"/>
                </a:cubicBezTo>
                <a:cubicBezTo>
                  <a:pt x="7689" y="10621"/>
                  <a:pt x="7713" y="10532"/>
                  <a:pt x="7739" y="10418"/>
                </a:cubicBezTo>
                <a:cubicBezTo>
                  <a:pt x="7739" y="10410"/>
                  <a:pt x="7739" y="10401"/>
                  <a:pt x="7739" y="10393"/>
                </a:cubicBezTo>
              </a:path>
              <a:path w="5210" h="1415">
                <a:moveTo>
                  <a:pt x="6598" y="11013"/>
                </a:moveTo>
                <a:cubicBezTo>
                  <a:pt x="6555" y="11185"/>
                  <a:pt x="6533" y="11356"/>
                  <a:pt x="6524" y="11534"/>
                </a:cubicBezTo>
              </a:path>
              <a:path w="5210" h="1415">
                <a:moveTo>
                  <a:pt x="7193" y="10964"/>
                </a:moveTo>
                <a:cubicBezTo>
                  <a:pt x="7127" y="10970"/>
                  <a:pt x="6988" y="10964"/>
                  <a:pt x="6945" y="11013"/>
                </a:cubicBezTo>
                <a:cubicBezTo>
                  <a:pt x="6894" y="11091"/>
                  <a:pt x="6876" y="11121"/>
                  <a:pt x="6871" y="11187"/>
                </a:cubicBezTo>
                <a:cubicBezTo>
                  <a:pt x="6960" y="11213"/>
                  <a:pt x="7157" y="11104"/>
                  <a:pt x="7243" y="11162"/>
                </a:cubicBezTo>
                <a:cubicBezTo>
                  <a:pt x="7440" y="11295"/>
                  <a:pt x="7167" y="11493"/>
                  <a:pt x="7045" y="11509"/>
                </a:cubicBezTo>
                <a:cubicBezTo>
                  <a:pt x="6888" y="11509"/>
                  <a:pt x="6846" y="11509"/>
                  <a:pt x="6747" y="11509"/>
                </a:cubicBezTo>
              </a:path>
              <a:path w="5210" h="1415">
                <a:moveTo>
                  <a:pt x="4167" y="11038"/>
                </a:moveTo>
                <a:cubicBezTo>
                  <a:pt x="4198" y="11260"/>
                  <a:pt x="4174" y="11440"/>
                  <a:pt x="4142" y="11658"/>
                </a:cubicBezTo>
                <a:cubicBezTo>
                  <a:pt x="4142" y="11710"/>
                  <a:pt x="4143" y="11725"/>
                  <a:pt x="4167" y="11658"/>
                </a:cubicBezTo>
              </a:path>
              <a:path w="5210" h="1415">
                <a:moveTo>
                  <a:pt x="4514" y="11112"/>
                </a:moveTo>
                <a:cubicBezTo>
                  <a:pt x="4506" y="11199"/>
                  <a:pt x="4475" y="11277"/>
                  <a:pt x="4465" y="11361"/>
                </a:cubicBezTo>
                <a:cubicBezTo>
                  <a:pt x="4619" y="11399"/>
                  <a:pt x="4733" y="11354"/>
                  <a:pt x="4887" y="11336"/>
                </a:cubicBezTo>
              </a:path>
              <a:path w="5210" h="1415">
                <a:moveTo>
                  <a:pt x="4862" y="10988"/>
                </a:moveTo>
                <a:cubicBezTo>
                  <a:pt x="4862" y="11213"/>
                  <a:pt x="4842" y="11434"/>
                  <a:pt x="4837" y="11658"/>
                </a:cubicBezTo>
                <a:cubicBezTo>
                  <a:pt x="4834" y="11811"/>
                  <a:pt x="4798" y="11794"/>
                  <a:pt x="4936" y="11782"/>
                </a:cubicBezTo>
              </a:path>
              <a:path w="5210" h="1415">
                <a:moveTo>
                  <a:pt x="5730" y="11237"/>
                </a:moveTo>
                <a:cubicBezTo>
                  <a:pt x="5730" y="11388"/>
                  <a:pt x="5734" y="11560"/>
                  <a:pt x="5705" y="11708"/>
                </a:cubicBezTo>
                <a:cubicBezTo>
                  <a:pt x="5685" y="11748"/>
                  <a:pt x="5676" y="11774"/>
                  <a:pt x="5680" y="11733"/>
                </a:cubicBezTo>
              </a:path>
              <a:path w="5210" h="1415">
                <a:moveTo>
                  <a:pt x="5507" y="11435"/>
                </a:moveTo>
                <a:cubicBezTo>
                  <a:pt x="5706" y="11425"/>
                  <a:pt x="5903" y="11392"/>
                  <a:pt x="6102" y="11385"/>
                </a:cubicBezTo>
                <a:cubicBezTo>
                  <a:pt x="6110" y="11385"/>
                  <a:pt x="6119" y="11385"/>
                  <a:pt x="6127" y="11385"/>
                </a:cubicBezTo>
              </a:path>
              <a:path w="5210" h="1415">
                <a:moveTo>
                  <a:pt x="8210" y="11311"/>
                </a:moveTo>
                <a:cubicBezTo>
                  <a:pt x="8370" y="11295"/>
                  <a:pt x="8521" y="11286"/>
                  <a:pt x="8682" y="11286"/>
                </a:cubicBezTo>
              </a:path>
              <a:path w="5210" h="1415">
                <a:moveTo>
                  <a:pt x="8905" y="10964"/>
                </a:moveTo>
                <a:cubicBezTo>
                  <a:pt x="8979" y="10877"/>
                  <a:pt x="9066" y="10855"/>
                  <a:pt x="9178" y="10864"/>
                </a:cubicBezTo>
                <a:cubicBezTo>
                  <a:pt x="9178" y="11128"/>
                  <a:pt x="9024" y="11284"/>
                  <a:pt x="8880" y="11509"/>
                </a:cubicBezTo>
                <a:cubicBezTo>
                  <a:pt x="8872" y="11526"/>
                  <a:pt x="8863" y="11542"/>
                  <a:pt x="8855" y="11559"/>
                </a:cubicBezTo>
                <a:cubicBezTo>
                  <a:pt x="8992" y="11525"/>
                  <a:pt x="9107" y="11489"/>
                  <a:pt x="9252" y="11485"/>
                </a:cubicBezTo>
                <a:cubicBezTo>
                  <a:pt x="9310" y="11485"/>
                  <a:pt x="9318" y="11485"/>
                  <a:pt x="9351" y="114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04960" y="4143240"/>
            <a:ext cx="2108160" cy="438120"/>
          </a:xfrm>
          <a:custGeom>
            <a:avLst/>
            <a:gdLst/>
            <a:ahLst/>
            <a:rect l="l" t="t" r="r" b="b"/>
            <a:pathLst>
              <a:path w="5855" h="1217">
                <a:moveTo>
                  <a:pt x="4738" y="11807"/>
                </a:moveTo>
                <a:cubicBezTo>
                  <a:pt x="4744" y="11880"/>
                  <a:pt x="4727" y="12000"/>
                  <a:pt x="4762" y="12055"/>
                </a:cubicBezTo>
                <a:cubicBezTo>
                  <a:pt x="4850" y="12190"/>
                  <a:pt x="5529" y="12011"/>
                  <a:pt x="5631" y="12005"/>
                </a:cubicBezTo>
                <a:cubicBezTo>
                  <a:pt x="5915" y="11987"/>
                  <a:pt x="6173" y="12042"/>
                  <a:pt x="6449" y="12080"/>
                </a:cubicBezTo>
                <a:cubicBezTo>
                  <a:pt x="6474" y="12080"/>
                  <a:pt x="6482" y="12080"/>
                  <a:pt x="6499" y="12080"/>
                </a:cubicBezTo>
                <a:cubicBezTo>
                  <a:pt x="6525" y="11969"/>
                  <a:pt x="6535" y="11838"/>
                  <a:pt x="6573" y="11733"/>
                </a:cubicBezTo>
                <a:cubicBezTo>
                  <a:pt x="6573" y="11708"/>
                  <a:pt x="6573" y="11700"/>
                  <a:pt x="6598" y="11708"/>
                </a:cubicBezTo>
              </a:path>
              <a:path w="5855" h="1217">
                <a:moveTo>
                  <a:pt x="5308" y="12303"/>
                </a:moveTo>
                <a:cubicBezTo>
                  <a:pt x="5238" y="12303"/>
                  <a:pt x="5428" y="12254"/>
                  <a:pt x="5432" y="12254"/>
                </a:cubicBezTo>
                <a:cubicBezTo>
                  <a:pt x="5465" y="12262"/>
                  <a:pt x="5498" y="12270"/>
                  <a:pt x="5531" y="12278"/>
                </a:cubicBezTo>
                <a:cubicBezTo>
                  <a:pt x="5611" y="12500"/>
                  <a:pt x="5490" y="12584"/>
                  <a:pt x="5259" y="12626"/>
                </a:cubicBezTo>
                <a:cubicBezTo>
                  <a:pt x="5136" y="12648"/>
                  <a:pt x="5146" y="12616"/>
                  <a:pt x="5135" y="12526"/>
                </a:cubicBezTo>
                <a:cubicBezTo>
                  <a:pt x="5274" y="12507"/>
                  <a:pt x="5400" y="12532"/>
                  <a:pt x="5531" y="12601"/>
                </a:cubicBezTo>
                <a:cubicBezTo>
                  <a:pt x="5574" y="12644"/>
                  <a:pt x="5605" y="12641"/>
                  <a:pt x="5655" y="12576"/>
                </a:cubicBezTo>
              </a:path>
              <a:path w="5855" h="1217">
                <a:moveTo>
                  <a:pt x="6052" y="12328"/>
                </a:moveTo>
                <a:cubicBezTo>
                  <a:pt x="6028" y="12253"/>
                  <a:pt x="6044" y="12150"/>
                  <a:pt x="5928" y="12154"/>
                </a:cubicBezTo>
                <a:cubicBezTo>
                  <a:pt x="5793" y="12159"/>
                  <a:pt x="5776" y="12252"/>
                  <a:pt x="5730" y="12353"/>
                </a:cubicBezTo>
                <a:cubicBezTo>
                  <a:pt x="5864" y="12387"/>
                  <a:pt x="5918" y="12325"/>
                  <a:pt x="6028" y="12229"/>
                </a:cubicBezTo>
                <a:cubicBezTo>
                  <a:pt x="6041" y="12368"/>
                  <a:pt x="6036" y="12462"/>
                  <a:pt x="6003" y="12601"/>
                </a:cubicBezTo>
              </a:path>
              <a:path w="5855" h="1217">
                <a:moveTo>
                  <a:pt x="6375" y="12402"/>
                </a:moveTo>
                <a:cubicBezTo>
                  <a:pt x="6441" y="12402"/>
                  <a:pt x="6507" y="12402"/>
                  <a:pt x="6573" y="12402"/>
                </a:cubicBezTo>
              </a:path>
              <a:path w="5855" h="1217">
                <a:moveTo>
                  <a:pt x="6921" y="12254"/>
                </a:moveTo>
                <a:cubicBezTo>
                  <a:pt x="7041" y="12226"/>
                  <a:pt x="7059" y="12228"/>
                  <a:pt x="7169" y="12278"/>
                </a:cubicBezTo>
                <a:cubicBezTo>
                  <a:pt x="7132" y="12477"/>
                  <a:pt x="7021" y="12570"/>
                  <a:pt x="6796" y="12576"/>
                </a:cubicBezTo>
                <a:cubicBezTo>
                  <a:pt x="6780" y="12568"/>
                  <a:pt x="6763" y="12559"/>
                  <a:pt x="6747" y="12551"/>
                </a:cubicBezTo>
                <a:cubicBezTo>
                  <a:pt x="6828" y="12417"/>
                  <a:pt x="6919" y="12417"/>
                  <a:pt x="7069" y="12477"/>
                </a:cubicBezTo>
                <a:cubicBezTo>
                  <a:pt x="7212" y="12534"/>
                  <a:pt x="7165" y="12551"/>
                  <a:pt x="7317" y="12551"/>
                </a:cubicBezTo>
              </a:path>
              <a:path w="5855" h="1217">
                <a:moveTo>
                  <a:pt x="7590" y="12254"/>
                </a:moveTo>
                <a:cubicBezTo>
                  <a:pt x="7658" y="12249"/>
                  <a:pt x="7940" y="12177"/>
                  <a:pt x="7987" y="12229"/>
                </a:cubicBezTo>
                <a:cubicBezTo>
                  <a:pt x="7979" y="12245"/>
                  <a:pt x="7970" y="12262"/>
                  <a:pt x="7962" y="12278"/>
                </a:cubicBezTo>
              </a:path>
              <a:path w="5855" h="1217">
                <a:moveTo>
                  <a:pt x="7615" y="12378"/>
                </a:moveTo>
                <a:cubicBezTo>
                  <a:pt x="7734" y="12378"/>
                  <a:pt x="7844" y="12359"/>
                  <a:pt x="7962" y="12353"/>
                </a:cubicBezTo>
                <a:cubicBezTo>
                  <a:pt x="7995" y="12353"/>
                  <a:pt x="8012" y="12353"/>
                  <a:pt x="8037" y="12353"/>
                </a:cubicBezTo>
              </a:path>
              <a:path w="5855" h="1217">
                <a:moveTo>
                  <a:pt x="8930" y="11956"/>
                </a:moveTo>
                <a:cubicBezTo>
                  <a:pt x="8919" y="11988"/>
                  <a:pt x="8861" y="11997"/>
                  <a:pt x="8880" y="11981"/>
                </a:cubicBezTo>
                <a:cubicBezTo>
                  <a:pt x="8958" y="11928"/>
                  <a:pt x="8987" y="11911"/>
                  <a:pt x="9054" y="11906"/>
                </a:cubicBezTo>
                <a:cubicBezTo>
                  <a:pt x="9230" y="12061"/>
                  <a:pt x="9277" y="12299"/>
                  <a:pt x="8979" y="12427"/>
                </a:cubicBezTo>
                <a:cubicBezTo>
                  <a:pt x="8823" y="12450"/>
                  <a:pt x="8778" y="12468"/>
                  <a:pt x="8706" y="12378"/>
                </a:cubicBezTo>
                <a:cubicBezTo>
                  <a:pt x="8798" y="12157"/>
                  <a:pt x="8941" y="12254"/>
                  <a:pt x="9153" y="12303"/>
                </a:cubicBezTo>
                <a:cubicBezTo>
                  <a:pt x="9252" y="12323"/>
                  <a:pt x="9268" y="12331"/>
                  <a:pt x="9327" y="12328"/>
                </a:cubicBezTo>
              </a:path>
              <a:path w="5855" h="1217">
                <a:moveTo>
                  <a:pt x="9351" y="11857"/>
                </a:moveTo>
                <a:cubicBezTo>
                  <a:pt x="9502" y="11846"/>
                  <a:pt x="9623" y="11836"/>
                  <a:pt x="9773" y="11857"/>
                </a:cubicBezTo>
                <a:cubicBezTo>
                  <a:pt x="9781" y="11857"/>
                  <a:pt x="9790" y="11857"/>
                  <a:pt x="9798" y="11857"/>
                </a:cubicBezTo>
                <a:cubicBezTo>
                  <a:pt x="9798" y="11999"/>
                  <a:pt x="9742" y="12137"/>
                  <a:pt x="9723" y="12278"/>
                </a:cubicBezTo>
                <a:cubicBezTo>
                  <a:pt x="9723" y="12320"/>
                  <a:pt x="9723" y="12328"/>
                  <a:pt x="9723" y="12353"/>
                </a:cubicBezTo>
              </a:path>
              <a:path w="5855" h="1217">
                <a:moveTo>
                  <a:pt x="8359" y="12601"/>
                </a:moveTo>
                <a:cubicBezTo>
                  <a:pt x="8549" y="12664"/>
                  <a:pt x="8676" y="12684"/>
                  <a:pt x="8880" y="12700"/>
                </a:cubicBezTo>
                <a:cubicBezTo>
                  <a:pt x="9360" y="12738"/>
                  <a:pt x="10106" y="12808"/>
                  <a:pt x="10492" y="12452"/>
                </a:cubicBezTo>
                <a:cubicBezTo>
                  <a:pt x="10630" y="12325"/>
                  <a:pt x="10637" y="12029"/>
                  <a:pt x="10517" y="11881"/>
                </a:cubicBezTo>
                <a:cubicBezTo>
                  <a:pt x="10296" y="11607"/>
                  <a:pt x="9824" y="11533"/>
                  <a:pt x="9500" y="11509"/>
                </a:cubicBezTo>
                <a:cubicBezTo>
                  <a:pt x="9194" y="11486"/>
                  <a:pt x="8757" y="11450"/>
                  <a:pt x="8483" y="11633"/>
                </a:cubicBezTo>
                <a:cubicBezTo>
                  <a:pt x="8289" y="11762"/>
                  <a:pt x="7955" y="12110"/>
                  <a:pt x="8037" y="12378"/>
                </a:cubicBezTo>
                <a:cubicBezTo>
                  <a:pt x="8126" y="12667"/>
                  <a:pt x="8574" y="12570"/>
                  <a:pt x="8781" y="125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51040" y="5054760"/>
            <a:ext cx="1428840" cy="455400"/>
          </a:xfrm>
          <a:custGeom>
            <a:avLst/>
            <a:gdLst/>
            <a:ahLst/>
            <a:rect l="l" t="t" r="r" b="b"/>
            <a:pathLst>
              <a:path w="3969" h="1266">
                <a:moveTo>
                  <a:pt x="5035" y="14238"/>
                </a:moveTo>
                <a:cubicBezTo>
                  <a:pt x="4973" y="14386"/>
                  <a:pt x="4899" y="14536"/>
                  <a:pt x="4862" y="14684"/>
                </a:cubicBezTo>
              </a:path>
              <a:path w="3969" h="1266">
                <a:moveTo>
                  <a:pt x="7987" y="14039"/>
                </a:moveTo>
                <a:cubicBezTo>
                  <a:pt x="7979" y="14056"/>
                  <a:pt x="7970" y="14072"/>
                  <a:pt x="7962" y="14089"/>
                </a:cubicBezTo>
              </a:path>
              <a:path w="3969" h="1266">
                <a:moveTo>
                  <a:pt x="7962" y="14089"/>
                </a:moveTo>
                <a:lnTo>
                  <a:pt x="7962" y="14089"/>
                </a:lnTo>
              </a:path>
              <a:path w="3969" h="1266">
                <a:moveTo>
                  <a:pt x="7962" y="14684"/>
                </a:moveTo>
                <a:cubicBezTo>
                  <a:pt x="7970" y="14684"/>
                  <a:pt x="7979" y="14684"/>
                  <a:pt x="7987" y="14684"/>
                </a:cubicBezTo>
              </a:path>
              <a:path w="3969" h="1266">
                <a:moveTo>
                  <a:pt x="8483" y="15304"/>
                </a:moveTo>
                <a:cubicBezTo>
                  <a:pt x="8658" y="15280"/>
                  <a:pt x="8718" y="15271"/>
                  <a:pt x="8830" y="152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74840" y="4884840"/>
            <a:ext cx="1839960" cy="438120"/>
          </a:xfrm>
          <a:custGeom>
            <a:avLst/>
            <a:gdLst/>
            <a:ahLst/>
            <a:rect l="l" t="t" r="r" b="b"/>
            <a:pathLst>
              <a:path w="5111" h="1217">
                <a:moveTo>
                  <a:pt x="5854" y="13593"/>
                </a:moveTo>
                <a:cubicBezTo>
                  <a:pt x="5796" y="13564"/>
                  <a:pt x="5806" y="13609"/>
                  <a:pt x="5779" y="13717"/>
                </a:cubicBezTo>
                <a:cubicBezTo>
                  <a:pt x="5760" y="13794"/>
                  <a:pt x="5768" y="13812"/>
                  <a:pt x="5730" y="13841"/>
                </a:cubicBezTo>
                <a:cubicBezTo>
                  <a:pt x="6020" y="13841"/>
                  <a:pt x="6310" y="13830"/>
                  <a:pt x="6598" y="13866"/>
                </a:cubicBezTo>
                <a:cubicBezTo>
                  <a:pt x="6863" y="13899"/>
                  <a:pt x="7127" y="13958"/>
                  <a:pt x="7392" y="13990"/>
                </a:cubicBezTo>
                <a:cubicBezTo>
                  <a:pt x="7417" y="13990"/>
                  <a:pt x="7425" y="13990"/>
                  <a:pt x="7441" y="13990"/>
                </a:cubicBezTo>
                <a:cubicBezTo>
                  <a:pt x="7441" y="13885"/>
                  <a:pt x="7446" y="13793"/>
                  <a:pt x="7466" y="13692"/>
                </a:cubicBezTo>
              </a:path>
              <a:path w="5111" h="1217">
                <a:moveTo>
                  <a:pt x="6300" y="13990"/>
                </a:moveTo>
                <a:cubicBezTo>
                  <a:pt x="6247" y="14138"/>
                  <a:pt x="6221" y="14322"/>
                  <a:pt x="6152" y="14461"/>
                </a:cubicBezTo>
                <a:cubicBezTo>
                  <a:pt x="6124" y="14461"/>
                  <a:pt x="6118" y="14459"/>
                  <a:pt x="6152" y="14436"/>
                </a:cubicBezTo>
              </a:path>
              <a:path w="5111" h="1217">
                <a:moveTo>
                  <a:pt x="6648" y="14064"/>
                </a:moveTo>
                <a:cubicBezTo>
                  <a:pt x="6540" y="14221"/>
                  <a:pt x="6503" y="14304"/>
                  <a:pt x="6474" y="14486"/>
                </a:cubicBezTo>
                <a:cubicBezTo>
                  <a:pt x="6726" y="14534"/>
                  <a:pt x="6801" y="14396"/>
                  <a:pt x="6896" y="14163"/>
                </a:cubicBezTo>
                <a:cubicBezTo>
                  <a:pt x="6714" y="14055"/>
                  <a:pt x="6607" y="14059"/>
                  <a:pt x="6375" y="14039"/>
                </a:cubicBezTo>
              </a:path>
              <a:path w="5111" h="1217">
                <a:moveTo>
                  <a:pt x="4217" y="14114"/>
                </a:moveTo>
                <a:cubicBezTo>
                  <a:pt x="4114" y="14114"/>
                  <a:pt x="3782" y="14144"/>
                  <a:pt x="3820" y="14337"/>
                </a:cubicBezTo>
                <a:cubicBezTo>
                  <a:pt x="3857" y="14522"/>
                  <a:pt x="4102" y="14544"/>
                  <a:pt x="4118" y="14734"/>
                </a:cubicBezTo>
                <a:cubicBezTo>
                  <a:pt x="4077" y="14751"/>
                  <a:pt x="4035" y="14767"/>
                  <a:pt x="3994" y="14784"/>
                </a:cubicBezTo>
                <a:cubicBezTo>
                  <a:pt x="3848" y="14585"/>
                  <a:pt x="3951" y="14467"/>
                  <a:pt x="4093" y="14238"/>
                </a:cubicBezTo>
                <a:cubicBezTo>
                  <a:pt x="4101" y="14230"/>
                  <a:pt x="4110" y="14221"/>
                  <a:pt x="4118" y="14213"/>
                </a:cubicBezTo>
              </a:path>
              <a:path w="5111" h="1217">
                <a:moveTo>
                  <a:pt x="4787" y="14163"/>
                </a:moveTo>
                <a:cubicBezTo>
                  <a:pt x="4875" y="14313"/>
                  <a:pt x="4971" y="14463"/>
                  <a:pt x="5060" y="14610"/>
                </a:cubicBezTo>
                <a:cubicBezTo>
                  <a:pt x="5088" y="14638"/>
                  <a:pt x="5097" y="14642"/>
                  <a:pt x="5085" y="14585"/>
                </a:cubicBezTo>
              </a:path>
              <a:path w="5111" h="1217">
                <a:moveTo>
                  <a:pt x="7640" y="14486"/>
                </a:moveTo>
                <a:cubicBezTo>
                  <a:pt x="7774" y="14435"/>
                  <a:pt x="7942" y="14424"/>
                  <a:pt x="8086" y="14412"/>
                </a:cubicBezTo>
                <a:cubicBezTo>
                  <a:pt x="8144" y="14412"/>
                  <a:pt x="8153" y="14412"/>
                  <a:pt x="8186" y="14412"/>
                </a:cubicBezTo>
              </a:path>
              <a:path w="5111" h="1217">
                <a:moveTo>
                  <a:pt x="8558" y="14114"/>
                </a:moveTo>
                <a:cubicBezTo>
                  <a:pt x="8676" y="14062"/>
                  <a:pt x="8699" y="14014"/>
                  <a:pt x="8830" y="14064"/>
                </a:cubicBezTo>
                <a:cubicBezTo>
                  <a:pt x="8756" y="14269"/>
                  <a:pt x="8667" y="14377"/>
                  <a:pt x="8508" y="14536"/>
                </a:cubicBezTo>
                <a:cubicBezTo>
                  <a:pt x="8650" y="14527"/>
                  <a:pt x="8789" y="14502"/>
                  <a:pt x="8930" y="144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30280" y="5411880"/>
            <a:ext cx="19080" cy="187200"/>
          </a:xfrm>
          <a:custGeom>
            <a:avLst/>
            <a:gdLst/>
            <a:ahLst/>
            <a:rect l="l" t="t" r="r" b="b"/>
            <a:pathLst>
              <a:path w="51" h="522">
                <a:moveTo>
                  <a:pt x="6499" y="15032"/>
                </a:moveTo>
                <a:cubicBezTo>
                  <a:pt x="6491" y="15048"/>
                  <a:pt x="6482" y="15065"/>
                  <a:pt x="6474" y="15081"/>
                </a:cubicBezTo>
              </a:path>
              <a:path w="51" h="522">
                <a:moveTo>
                  <a:pt x="6474" y="15081"/>
                </a:moveTo>
                <a:lnTo>
                  <a:pt x="6474" y="15081"/>
                </a:lnTo>
              </a:path>
              <a:path w="51" h="522">
                <a:moveTo>
                  <a:pt x="6524" y="15528"/>
                </a:moveTo>
                <a:cubicBezTo>
                  <a:pt x="6524" y="15536"/>
                  <a:pt x="6524" y="15545"/>
                  <a:pt x="6524" y="155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73120" y="5170320"/>
            <a:ext cx="2571840" cy="527040"/>
          </a:xfrm>
          <a:custGeom>
            <a:avLst/>
            <a:gdLst/>
            <a:ahLst/>
            <a:rect l="l" t="t" r="r" b="b"/>
            <a:pathLst>
              <a:path w="7145" h="1464">
                <a:moveTo>
                  <a:pt x="4093" y="14759"/>
                </a:moveTo>
                <a:cubicBezTo>
                  <a:pt x="4111" y="14842"/>
                  <a:pt x="4091" y="14921"/>
                  <a:pt x="4192" y="14932"/>
                </a:cubicBezTo>
                <a:cubicBezTo>
                  <a:pt x="4591" y="14977"/>
                  <a:pt x="4978" y="14888"/>
                  <a:pt x="5383" y="14957"/>
                </a:cubicBezTo>
                <a:cubicBezTo>
                  <a:pt x="5460" y="14970"/>
                  <a:pt x="5650" y="15062"/>
                  <a:pt x="5730" y="14982"/>
                </a:cubicBezTo>
                <a:cubicBezTo>
                  <a:pt x="5828" y="14884"/>
                  <a:pt x="5907" y="14762"/>
                  <a:pt x="6003" y="14660"/>
                </a:cubicBezTo>
              </a:path>
              <a:path w="7145" h="1464">
                <a:moveTo>
                  <a:pt x="5110" y="15032"/>
                </a:moveTo>
                <a:cubicBezTo>
                  <a:pt x="5013" y="15032"/>
                  <a:pt x="5008" y="15043"/>
                  <a:pt x="4911" y="15081"/>
                </a:cubicBezTo>
                <a:cubicBezTo>
                  <a:pt x="4926" y="15115"/>
                  <a:pt x="5222" y="15283"/>
                  <a:pt x="5110" y="15404"/>
                </a:cubicBezTo>
                <a:cubicBezTo>
                  <a:pt x="4997" y="15449"/>
                  <a:pt x="4967" y="15465"/>
                  <a:pt x="4887" y="15453"/>
                </a:cubicBezTo>
                <a:cubicBezTo>
                  <a:pt x="4950" y="15325"/>
                  <a:pt x="5060" y="15253"/>
                  <a:pt x="5135" y="15156"/>
                </a:cubicBezTo>
                <a:cubicBezTo>
                  <a:pt x="5135" y="15148"/>
                  <a:pt x="5135" y="15139"/>
                  <a:pt x="5135" y="15131"/>
                </a:cubicBezTo>
              </a:path>
              <a:path w="7145" h="1464">
                <a:moveTo>
                  <a:pt x="5407" y="15131"/>
                </a:moveTo>
                <a:cubicBezTo>
                  <a:pt x="5307" y="15231"/>
                  <a:pt x="5273" y="15265"/>
                  <a:pt x="5234" y="15354"/>
                </a:cubicBezTo>
                <a:cubicBezTo>
                  <a:pt x="5355" y="15425"/>
                  <a:pt x="5639" y="15485"/>
                  <a:pt x="5705" y="15280"/>
                </a:cubicBezTo>
                <a:cubicBezTo>
                  <a:pt x="5760" y="15109"/>
                  <a:pt x="5608" y="15140"/>
                  <a:pt x="5531" y="15156"/>
                </a:cubicBezTo>
              </a:path>
              <a:path w="7145" h="1464">
                <a:moveTo>
                  <a:pt x="6325" y="15280"/>
                </a:moveTo>
                <a:cubicBezTo>
                  <a:pt x="6445" y="15280"/>
                  <a:pt x="6596" y="15306"/>
                  <a:pt x="6672" y="15230"/>
                </a:cubicBezTo>
              </a:path>
              <a:path w="7145" h="1464">
                <a:moveTo>
                  <a:pt x="6970" y="15131"/>
                </a:moveTo>
                <a:cubicBezTo>
                  <a:pt x="7008" y="15119"/>
                  <a:pt x="7260" y="15030"/>
                  <a:pt x="7243" y="15156"/>
                </a:cubicBezTo>
                <a:cubicBezTo>
                  <a:pt x="7225" y="15292"/>
                  <a:pt x="7108" y="15365"/>
                  <a:pt x="7020" y="15453"/>
                </a:cubicBezTo>
                <a:cubicBezTo>
                  <a:pt x="7164" y="15474"/>
                  <a:pt x="7273" y="15465"/>
                  <a:pt x="7417" y="15453"/>
                </a:cubicBezTo>
                <a:cubicBezTo>
                  <a:pt x="7475" y="15453"/>
                  <a:pt x="7483" y="15453"/>
                  <a:pt x="7516" y="15453"/>
                </a:cubicBezTo>
              </a:path>
              <a:path w="7145" h="1464">
                <a:moveTo>
                  <a:pt x="8260" y="15131"/>
                </a:moveTo>
                <a:cubicBezTo>
                  <a:pt x="8423" y="15131"/>
                  <a:pt x="8569" y="15124"/>
                  <a:pt x="8731" y="15131"/>
                </a:cubicBezTo>
                <a:cubicBezTo>
                  <a:pt x="8764" y="15131"/>
                  <a:pt x="8797" y="15131"/>
                  <a:pt x="8830" y="15131"/>
                </a:cubicBezTo>
              </a:path>
              <a:path w="7145" h="1464">
                <a:moveTo>
                  <a:pt x="9302" y="14858"/>
                </a:moveTo>
                <a:cubicBezTo>
                  <a:pt x="9276" y="14955"/>
                  <a:pt x="9191" y="15085"/>
                  <a:pt x="9327" y="15131"/>
                </a:cubicBezTo>
                <a:cubicBezTo>
                  <a:pt x="9505" y="15191"/>
                  <a:pt x="9593" y="15148"/>
                  <a:pt x="9748" y="15081"/>
                </a:cubicBezTo>
              </a:path>
              <a:path w="7145" h="1464">
                <a:moveTo>
                  <a:pt x="9748" y="14784"/>
                </a:moveTo>
                <a:cubicBezTo>
                  <a:pt x="9710" y="14910"/>
                  <a:pt x="9506" y="15326"/>
                  <a:pt x="9550" y="15453"/>
                </a:cubicBezTo>
                <a:cubicBezTo>
                  <a:pt x="9566" y="15437"/>
                  <a:pt x="9583" y="15420"/>
                  <a:pt x="9599" y="15404"/>
                </a:cubicBezTo>
              </a:path>
              <a:path w="7145" h="1464">
                <a:moveTo>
                  <a:pt x="10120" y="14833"/>
                </a:moveTo>
                <a:cubicBezTo>
                  <a:pt x="9924" y="15043"/>
                  <a:pt x="9866" y="15165"/>
                  <a:pt x="9947" y="15429"/>
                </a:cubicBezTo>
                <a:cubicBezTo>
                  <a:pt x="10068" y="15412"/>
                  <a:pt x="10640" y="15234"/>
                  <a:pt x="10368" y="14982"/>
                </a:cubicBezTo>
                <a:cubicBezTo>
                  <a:pt x="10178" y="14934"/>
                  <a:pt x="10119" y="14913"/>
                  <a:pt x="10021" y="15032"/>
                </a:cubicBezTo>
              </a:path>
              <a:path w="7145" h="1464">
                <a:moveTo>
                  <a:pt x="8930" y="15478"/>
                </a:moveTo>
                <a:cubicBezTo>
                  <a:pt x="9388" y="15646"/>
                  <a:pt x="9852" y="15704"/>
                  <a:pt x="10344" y="15627"/>
                </a:cubicBezTo>
                <a:cubicBezTo>
                  <a:pt x="10876" y="15544"/>
                  <a:pt x="11009" y="15436"/>
                  <a:pt x="11237" y="15032"/>
                </a:cubicBezTo>
                <a:cubicBezTo>
                  <a:pt x="10795" y="14513"/>
                  <a:pt x="10239" y="14158"/>
                  <a:pt x="9500" y="14461"/>
                </a:cubicBezTo>
                <a:cubicBezTo>
                  <a:pt x="8586" y="14836"/>
                  <a:pt x="8997" y="15445"/>
                  <a:pt x="9500" y="15825"/>
                </a:cubicBezTo>
              </a:path>
              <a:path w="7145" h="1464">
                <a:moveTo>
                  <a:pt x="10096" y="14883"/>
                </a:moveTo>
                <a:cubicBezTo>
                  <a:pt x="10116" y="14821"/>
                  <a:pt x="10245" y="14797"/>
                  <a:pt x="10319" y="14808"/>
                </a:cubicBezTo>
                <a:cubicBezTo>
                  <a:pt x="10345" y="14812"/>
                  <a:pt x="10364" y="14896"/>
                  <a:pt x="10368" y="14908"/>
                </a:cubicBezTo>
              </a:path>
              <a:path w="7145" h="1464">
                <a:moveTo>
                  <a:pt x="10344" y="14883"/>
                </a:moveTo>
                <a:cubicBezTo>
                  <a:pt x="10366" y="14959"/>
                  <a:pt x="10368" y="15024"/>
                  <a:pt x="10368" y="151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01920" y="5776920"/>
            <a:ext cx="2090880" cy="652320"/>
          </a:xfrm>
          <a:custGeom>
            <a:avLst/>
            <a:gdLst/>
            <a:ahLst/>
            <a:rect l="l" t="t" r="r" b="b"/>
            <a:pathLst>
              <a:path w="5806" h="1811">
                <a:moveTo>
                  <a:pt x="6697" y="17041"/>
                </a:moveTo>
                <a:cubicBezTo>
                  <a:pt x="6622" y="17041"/>
                  <a:pt x="6797" y="17032"/>
                  <a:pt x="6871" y="17016"/>
                </a:cubicBezTo>
                <a:cubicBezTo>
                  <a:pt x="6945" y="16997"/>
                  <a:pt x="6978" y="16963"/>
                  <a:pt x="6970" y="17016"/>
                </a:cubicBezTo>
              </a:path>
              <a:path w="5806" h="1811">
                <a:moveTo>
                  <a:pt x="6672" y="17264"/>
                </a:moveTo>
                <a:cubicBezTo>
                  <a:pt x="6761" y="17257"/>
                  <a:pt x="6889" y="17253"/>
                  <a:pt x="6970" y="17214"/>
                </a:cubicBezTo>
                <a:cubicBezTo>
                  <a:pt x="6978" y="17206"/>
                  <a:pt x="6987" y="17198"/>
                  <a:pt x="6995" y="17190"/>
                </a:cubicBezTo>
              </a:path>
              <a:path w="5806" h="1811">
                <a:moveTo>
                  <a:pt x="7888" y="16148"/>
                </a:moveTo>
                <a:cubicBezTo>
                  <a:pt x="7960" y="16334"/>
                  <a:pt x="7984" y="16528"/>
                  <a:pt x="8037" y="16718"/>
                </a:cubicBezTo>
                <a:cubicBezTo>
                  <a:pt x="8057" y="16759"/>
                  <a:pt x="8066" y="16786"/>
                  <a:pt x="8062" y="16743"/>
                </a:cubicBezTo>
              </a:path>
              <a:path w="5806" h="1811">
                <a:moveTo>
                  <a:pt x="8186" y="16098"/>
                </a:moveTo>
                <a:cubicBezTo>
                  <a:pt x="8312" y="16082"/>
                  <a:pt x="8484" y="16006"/>
                  <a:pt x="8607" y="16073"/>
                </a:cubicBezTo>
                <a:cubicBezTo>
                  <a:pt x="8798" y="16178"/>
                  <a:pt x="8526" y="16506"/>
                  <a:pt x="8458" y="16594"/>
                </a:cubicBezTo>
                <a:cubicBezTo>
                  <a:pt x="8433" y="16619"/>
                  <a:pt x="8409" y="16644"/>
                  <a:pt x="8384" y="16669"/>
                </a:cubicBezTo>
                <a:cubicBezTo>
                  <a:pt x="8504" y="16645"/>
                  <a:pt x="8632" y="16617"/>
                  <a:pt x="8756" y="16594"/>
                </a:cubicBezTo>
                <a:cubicBezTo>
                  <a:pt x="8868" y="16574"/>
                  <a:pt x="8865" y="16547"/>
                  <a:pt x="8930" y="16594"/>
                </a:cubicBezTo>
              </a:path>
              <a:path w="5806" h="1811">
                <a:moveTo>
                  <a:pt x="7640" y="17115"/>
                </a:moveTo>
                <a:cubicBezTo>
                  <a:pt x="7861" y="17077"/>
                  <a:pt x="8087" y="17046"/>
                  <a:pt x="8310" y="17016"/>
                </a:cubicBezTo>
                <a:cubicBezTo>
                  <a:pt x="8697" y="16963"/>
                  <a:pt x="9089" y="16938"/>
                  <a:pt x="9475" y="16892"/>
                </a:cubicBezTo>
                <a:cubicBezTo>
                  <a:pt x="9500" y="16892"/>
                  <a:pt x="9508" y="16892"/>
                  <a:pt x="9525" y="16892"/>
                </a:cubicBezTo>
              </a:path>
              <a:path w="5806" h="1811">
                <a:moveTo>
                  <a:pt x="8657" y="17214"/>
                </a:moveTo>
                <a:cubicBezTo>
                  <a:pt x="8657" y="17162"/>
                  <a:pt x="8610" y="17329"/>
                  <a:pt x="8607" y="17338"/>
                </a:cubicBezTo>
                <a:cubicBezTo>
                  <a:pt x="8578" y="17437"/>
                  <a:pt x="8514" y="17656"/>
                  <a:pt x="8558" y="17760"/>
                </a:cubicBezTo>
                <a:cubicBezTo>
                  <a:pt x="8588" y="17830"/>
                  <a:pt x="8739" y="17881"/>
                  <a:pt x="8806" y="17859"/>
                </a:cubicBezTo>
                <a:cubicBezTo>
                  <a:pt x="8883" y="17833"/>
                  <a:pt x="8980" y="17762"/>
                  <a:pt x="9029" y="17711"/>
                </a:cubicBezTo>
                <a:cubicBezTo>
                  <a:pt x="9085" y="17651"/>
                  <a:pt x="9094" y="17639"/>
                  <a:pt x="9103" y="17562"/>
                </a:cubicBezTo>
                <a:cubicBezTo>
                  <a:pt x="9048" y="17562"/>
                  <a:pt x="9009" y="17527"/>
                  <a:pt x="8954" y="17537"/>
                </a:cubicBezTo>
                <a:cubicBezTo>
                  <a:pt x="8900" y="17547"/>
                  <a:pt x="8819" y="17619"/>
                  <a:pt x="8830" y="17686"/>
                </a:cubicBezTo>
                <a:cubicBezTo>
                  <a:pt x="8833" y="17707"/>
                  <a:pt x="8868" y="17843"/>
                  <a:pt x="8880" y="17859"/>
                </a:cubicBezTo>
                <a:cubicBezTo>
                  <a:pt x="8888" y="17859"/>
                  <a:pt x="8897" y="17859"/>
                  <a:pt x="8905" y="17859"/>
                </a:cubicBezTo>
              </a:path>
              <a:path w="5806" h="1811">
                <a:moveTo>
                  <a:pt x="9996" y="16917"/>
                </a:moveTo>
                <a:cubicBezTo>
                  <a:pt x="10150" y="16917"/>
                  <a:pt x="10268" y="16866"/>
                  <a:pt x="10418" y="16842"/>
                </a:cubicBezTo>
                <a:cubicBezTo>
                  <a:pt x="10484" y="16831"/>
                  <a:pt x="10468" y="16847"/>
                  <a:pt x="10468" y="16892"/>
                </a:cubicBezTo>
              </a:path>
              <a:path w="5806" h="1811">
                <a:moveTo>
                  <a:pt x="10021" y="17165"/>
                </a:moveTo>
                <a:cubicBezTo>
                  <a:pt x="10157" y="17165"/>
                  <a:pt x="10261" y="17127"/>
                  <a:pt x="10393" y="17115"/>
                </a:cubicBezTo>
                <a:cubicBezTo>
                  <a:pt x="10401" y="17115"/>
                  <a:pt x="10410" y="17115"/>
                  <a:pt x="10418" y="17115"/>
                </a:cubicBezTo>
              </a:path>
              <a:path w="5806" h="1811">
                <a:moveTo>
                  <a:pt x="11385" y="16718"/>
                </a:moveTo>
                <a:cubicBezTo>
                  <a:pt x="11408" y="16617"/>
                  <a:pt x="11459" y="16545"/>
                  <a:pt x="11559" y="16495"/>
                </a:cubicBezTo>
                <a:cubicBezTo>
                  <a:pt x="11662" y="16443"/>
                  <a:pt x="11755" y="16443"/>
                  <a:pt x="11782" y="16570"/>
                </a:cubicBezTo>
                <a:cubicBezTo>
                  <a:pt x="11816" y="16726"/>
                  <a:pt x="11652" y="16911"/>
                  <a:pt x="11559" y="17016"/>
                </a:cubicBezTo>
                <a:cubicBezTo>
                  <a:pt x="11461" y="17126"/>
                  <a:pt x="11328" y="17254"/>
                  <a:pt x="11261" y="17388"/>
                </a:cubicBezTo>
                <a:cubicBezTo>
                  <a:pt x="11261" y="17396"/>
                  <a:pt x="11261" y="17405"/>
                  <a:pt x="11261" y="17413"/>
                </a:cubicBezTo>
                <a:cubicBezTo>
                  <a:pt x="11285" y="17353"/>
                  <a:pt x="11399" y="17245"/>
                  <a:pt x="11460" y="17214"/>
                </a:cubicBezTo>
                <a:cubicBezTo>
                  <a:pt x="11536" y="17176"/>
                  <a:pt x="11603" y="17287"/>
                  <a:pt x="11658" y="17314"/>
                </a:cubicBezTo>
                <a:cubicBezTo>
                  <a:pt x="11776" y="17372"/>
                  <a:pt x="11829" y="17283"/>
                  <a:pt x="11931" y="17264"/>
                </a:cubicBezTo>
                <a:cubicBezTo>
                  <a:pt x="11939" y="17264"/>
                  <a:pt x="11948" y="17264"/>
                  <a:pt x="11956" y="17264"/>
                </a:cubicBezTo>
              </a:path>
              <a:path w="5806" h="1811">
                <a:moveTo>
                  <a:pt x="10765" y="17686"/>
                </a:moveTo>
                <a:cubicBezTo>
                  <a:pt x="10920" y="17731"/>
                  <a:pt x="11047" y="17757"/>
                  <a:pt x="11212" y="17760"/>
                </a:cubicBezTo>
                <a:cubicBezTo>
                  <a:pt x="11412" y="17764"/>
                  <a:pt x="11640" y="17744"/>
                  <a:pt x="11832" y="17686"/>
                </a:cubicBezTo>
                <a:cubicBezTo>
                  <a:pt x="12022" y="17629"/>
                  <a:pt x="12216" y="17450"/>
                  <a:pt x="12328" y="17289"/>
                </a:cubicBezTo>
                <a:cubicBezTo>
                  <a:pt x="12409" y="17173"/>
                  <a:pt x="12489" y="16959"/>
                  <a:pt x="12477" y="16818"/>
                </a:cubicBezTo>
                <a:cubicBezTo>
                  <a:pt x="12465" y="16667"/>
                  <a:pt x="12415" y="16524"/>
                  <a:pt x="12303" y="16421"/>
                </a:cubicBezTo>
                <a:cubicBezTo>
                  <a:pt x="12142" y="16273"/>
                  <a:pt x="11963" y="16189"/>
                  <a:pt x="11757" y="16123"/>
                </a:cubicBezTo>
                <a:cubicBezTo>
                  <a:pt x="11591" y="16070"/>
                  <a:pt x="11444" y="16098"/>
                  <a:pt x="11286" y="16148"/>
                </a:cubicBezTo>
                <a:cubicBezTo>
                  <a:pt x="11095" y="16209"/>
                  <a:pt x="10875" y="16319"/>
                  <a:pt x="10765" y="16495"/>
                </a:cubicBezTo>
                <a:cubicBezTo>
                  <a:pt x="10654" y="16672"/>
                  <a:pt x="10607" y="16909"/>
                  <a:pt x="10592" y="17115"/>
                </a:cubicBezTo>
                <a:cubicBezTo>
                  <a:pt x="10580" y="17279"/>
                  <a:pt x="10612" y="17443"/>
                  <a:pt x="10691" y="17587"/>
                </a:cubicBezTo>
                <a:cubicBezTo>
                  <a:pt x="10740" y="17677"/>
                  <a:pt x="10806" y="17693"/>
                  <a:pt x="10889" y="17735"/>
                </a:cubicBezTo>
                <a:cubicBezTo>
                  <a:pt x="10912" y="17758"/>
                  <a:pt x="10916" y="17766"/>
                  <a:pt x="10939" y="177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"/>
              </a:rPr>
              <a:t>Course 1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Palatino"/>
              </a:rPr>
              <a:t>September 8, 2011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3657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Objective:  Students will apply the Order of Operations to correctly evaluate expressions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Objective:  Students will apply the Order of Operations to correctly evaluate expressions.</a:t>
            </a:r>
            <a:br>
              <a:rPr sz="4800"/>
            </a:br>
            <a:endParaRPr b="1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305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ow do you remember the Order of Operations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Remember to always go back to the far left each time you reevaluate the expression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9 ÷ 3 + 4 x 5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2" name=""/>
          <p:cNvSpPr/>
          <p:nvPr/>
        </p:nvSpPr>
        <p:spPr>
          <a:xfrm>
            <a:off x="8332920" y="1625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68800" y="5392800"/>
            <a:ext cx="1714320" cy="1447560"/>
          </a:xfrm>
          <a:custGeom>
            <a:avLst/>
            <a:gdLst/>
            <a:ahLst/>
            <a:rect l="l" t="t" r="r" b="b"/>
            <a:pathLst>
              <a:path w="4763" h="4019">
                <a:moveTo>
                  <a:pt x="9079" y="15056"/>
                </a:moveTo>
                <a:cubicBezTo>
                  <a:pt x="9079" y="15158"/>
                  <a:pt x="9026" y="15429"/>
                  <a:pt x="9128" y="15478"/>
                </a:cubicBezTo>
                <a:cubicBezTo>
                  <a:pt x="9268" y="15545"/>
                  <a:pt x="9527" y="15423"/>
                  <a:pt x="9674" y="15404"/>
                </a:cubicBezTo>
                <a:cubicBezTo>
                  <a:pt x="9994" y="15362"/>
                  <a:pt x="10319" y="15311"/>
                  <a:pt x="10641" y="15304"/>
                </a:cubicBezTo>
                <a:cubicBezTo>
                  <a:pt x="10690" y="15303"/>
                  <a:pt x="10740" y="15304"/>
                  <a:pt x="10790" y="15304"/>
                </a:cubicBezTo>
                <a:cubicBezTo>
                  <a:pt x="10806" y="15193"/>
                  <a:pt x="10815" y="15095"/>
                  <a:pt x="10815" y="14982"/>
                </a:cubicBezTo>
              </a:path>
              <a:path w="4763" h="4019">
                <a:moveTo>
                  <a:pt x="9922" y="16024"/>
                </a:moveTo>
                <a:cubicBezTo>
                  <a:pt x="9922" y="15966"/>
                  <a:pt x="9971" y="15900"/>
                  <a:pt x="10021" y="15850"/>
                </a:cubicBezTo>
                <a:cubicBezTo>
                  <a:pt x="10126" y="15745"/>
                  <a:pt x="10207" y="15721"/>
                  <a:pt x="10344" y="15701"/>
                </a:cubicBezTo>
                <a:cubicBezTo>
                  <a:pt x="10393" y="15851"/>
                  <a:pt x="10445" y="16024"/>
                  <a:pt x="10244" y="16098"/>
                </a:cubicBezTo>
                <a:cubicBezTo>
                  <a:pt x="10186" y="16098"/>
                  <a:pt x="10178" y="16098"/>
                  <a:pt x="10145" y="16098"/>
                </a:cubicBezTo>
                <a:cubicBezTo>
                  <a:pt x="10175" y="16009"/>
                  <a:pt x="10349" y="16025"/>
                  <a:pt x="10418" y="16123"/>
                </a:cubicBezTo>
                <a:cubicBezTo>
                  <a:pt x="10560" y="16324"/>
                  <a:pt x="10275" y="16452"/>
                  <a:pt x="10145" y="16470"/>
                </a:cubicBezTo>
                <a:cubicBezTo>
                  <a:pt x="10041" y="16485"/>
                  <a:pt x="9984" y="16497"/>
                  <a:pt x="9971" y="16421"/>
                </a:cubicBezTo>
              </a:path>
              <a:path w="4763" h="4019">
                <a:moveTo>
                  <a:pt x="11088" y="15949"/>
                </a:moveTo>
                <a:cubicBezTo>
                  <a:pt x="11088" y="16081"/>
                  <a:pt x="11088" y="16214"/>
                  <a:pt x="11088" y="16346"/>
                </a:cubicBezTo>
              </a:path>
              <a:path w="4763" h="4019">
                <a:moveTo>
                  <a:pt x="10840" y="16123"/>
                </a:moveTo>
                <a:cubicBezTo>
                  <a:pt x="10985" y="16113"/>
                  <a:pt x="11144" y="16099"/>
                  <a:pt x="11286" y="16073"/>
                </a:cubicBezTo>
                <a:cubicBezTo>
                  <a:pt x="11344" y="16055"/>
                  <a:pt x="11350" y="16047"/>
                  <a:pt x="11385" y="16049"/>
                </a:cubicBezTo>
              </a:path>
              <a:path w="4763" h="4019">
                <a:moveTo>
                  <a:pt x="11733" y="15850"/>
                </a:moveTo>
                <a:cubicBezTo>
                  <a:pt x="11774" y="15923"/>
                  <a:pt x="11772" y="15949"/>
                  <a:pt x="11757" y="16024"/>
                </a:cubicBezTo>
                <a:cubicBezTo>
                  <a:pt x="11883" y="16014"/>
                  <a:pt x="12005" y="15972"/>
                  <a:pt x="12129" y="16024"/>
                </a:cubicBezTo>
                <a:cubicBezTo>
                  <a:pt x="12137" y="16032"/>
                  <a:pt x="12146" y="16041"/>
                  <a:pt x="12154" y="16049"/>
                </a:cubicBezTo>
              </a:path>
              <a:path w="4763" h="4019">
                <a:moveTo>
                  <a:pt x="12105" y="15701"/>
                </a:moveTo>
                <a:cubicBezTo>
                  <a:pt x="12105" y="15832"/>
                  <a:pt x="12132" y="15969"/>
                  <a:pt x="12154" y="16098"/>
                </a:cubicBezTo>
                <a:cubicBezTo>
                  <a:pt x="12168" y="16180"/>
                  <a:pt x="12179" y="16214"/>
                  <a:pt x="12179" y="16297"/>
                </a:cubicBezTo>
              </a:path>
              <a:path w="4763" h="4019">
                <a:moveTo>
                  <a:pt x="12650" y="15925"/>
                </a:moveTo>
                <a:cubicBezTo>
                  <a:pt x="12707" y="16036"/>
                  <a:pt x="12798" y="16099"/>
                  <a:pt x="12898" y="16173"/>
                </a:cubicBezTo>
                <a:cubicBezTo>
                  <a:pt x="12948" y="16210"/>
                  <a:pt x="12920" y="16223"/>
                  <a:pt x="12973" y="16197"/>
                </a:cubicBezTo>
              </a:path>
              <a:path w="4763" h="4019">
                <a:moveTo>
                  <a:pt x="12998" y="15850"/>
                </a:moveTo>
                <a:cubicBezTo>
                  <a:pt x="12920" y="15985"/>
                  <a:pt x="12806" y="16129"/>
                  <a:pt x="12750" y="16272"/>
                </a:cubicBezTo>
                <a:cubicBezTo>
                  <a:pt x="12726" y="16332"/>
                  <a:pt x="12792" y="16205"/>
                  <a:pt x="12824" y="16148"/>
                </a:cubicBezTo>
              </a:path>
              <a:path w="4763" h="4019">
                <a:moveTo>
                  <a:pt x="13643" y="15652"/>
                </a:moveTo>
                <a:cubicBezTo>
                  <a:pt x="13567" y="15652"/>
                  <a:pt x="13453" y="15631"/>
                  <a:pt x="13419" y="15677"/>
                </a:cubicBezTo>
                <a:cubicBezTo>
                  <a:pt x="13368" y="15746"/>
                  <a:pt x="13357" y="15885"/>
                  <a:pt x="13345" y="15974"/>
                </a:cubicBezTo>
                <a:cubicBezTo>
                  <a:pt x="13345" y="15991"/>
                  <a:pt x="13345" y="16007"/>
                  <a:pt x="13345" y="16024"/>
                </a:cubicBezTo>
                <a:cubicBezTo>
                  <a:pt x="13448" y="15982"/>
                  <a:pt x="13411" y="15955"/>
                  <a:pt x="13543" y="15949"/>
                </a:cubicBezTo>
                <a:cubicBezTo>
                  <a:pt x="13616" y="15946"/>
                  <a:pt x="13739" y="15965"/>
                  <a:pt x="13767" y="16049"/>
                </a:cubicBezTo>
                <a:cubicBezTo>
                  <a:pt x="13794" y="16130"/>
                  <a:pt x="13727" y="16275"/>
                  <a:pt x="13643" y="16297"/>
                </a:cubicBezTo>
                <a:cubicBezTo>
                  <a:pt x="13564" y="16318"/>
                  <a:pt x="13486" y="16255"/>
                  <a:pt x="13419" y="16222"/>
                </a:cubicBezTo>
              </a:path>
              <a:path w="4763" h="4019">
                <a:moveTo>
                  <a:pt x="13543" y="15677"/>
                </a:moveTo>
                <a:cubicBezTo>
                  <a:pt x="13565" y="15612"/>
                  <a:pt x="13638" y="15670"/>
                  <a:pt x="13692" y="15677"/>
                </a:cubicBezTo>
                <a:cubicBezTo>
                  <a:pt x="13739" y="15683"/>
                  <a:pt x="13793" y="15677"/>
                  <a:pt x="13841" y="15677"/>
                </a:cubicBezTo>
              </a:path>
              <a:path w="4763" h="4019">
                <a:moveTo>
                  <a:pt x="12154" y="16421"/>
                </a:moveTo>
                <a:cubicBezTo>
                  <a:pt x="12165" y="16498"/>
                  <a:pt x="12179" y="16566"/>
                  <a:pt x="12179" y="16644"/>
                </a:cubicBezTo>
                <a:cubicBezTo>
                  <a:pt x="12179" y="16652"/>
                  <a:pt x="12179" y="16661"/>
                  <a:pt x="12179" y="16669"/>
                </a:cubicBezTo>
                <a:cubicBezTo>
                  <a:pt x="12324" y="16632"/>
                  <a:pt x="12480" y="16586"/>
                  <a:pt x="12626" y="16545"/>
                </a:cubicBezTo>
                <a:cubicBezTo>
                  <a:pt x="12786" y="16500"/>
                  <a:pt x="12906" y="16470"/>
                  <a:pt x="13072" y="16470"/>
                </a:cubicBezTo>
                <a:cubicBezTo>
                  <a:pt x="13130" y="16470"/>
                  <a:pt x="13138" y="16470"/>
                  <a:pt x="13171" y="16470"/>
                </a:cubicBezTo>
                <a:cubicBezTo>
                  <a:pt x="13171" y="16389"/>
                  <a:pt x="13176" y="16260"/>
                  <a:pt x="13221" y="16197"/>
                </a:cubicBezTo>
                <a:cubicBezTo>
                  <a:pt x="13229" y="16197"/>
                  <a:pt x="13238" y="16197"/>
                  <a:pt x="13246" y="16197"/>
                </a:cubicBezTo>
              </a:path>
              <a:path w="4763" h="4019">
                <a:moveTo>
                  <a:pt x="12650" y="17016"/>
                </a:moveTo>
                <a:cubicBezTo>
                  <a:pt x="12599" y="16998"/>
                  <a:pt x="12633" y="16994"/>
                  <a:pt x="12675" y="16966"/>
                </a:cubicBezTo>
                <a:cubicBezTo>
                  <a:pt x="12946" y="17027"/>
                  <a:pt x="12919" y="17219"/>
                  <a:pt x="12700" y="17413"/>
                </a:cubicBezTo>
                <a:cubicBezTo>
                  <a:pt x="12548" y="17548"/>
                  <a:pt x="12478" y="17527"/>
                  <a:pt x="12328" y="17462"/>
                </a:cubicBezTo>
                <a:cubicBezTo>
                  <a:pt x="12368" y="17286"/>
                  <a:pt x="12487" y="17307"/>
                  <a:pt x="12675" y="17338"/>
                </a:cubicBezTo>
                <a:cubicBezTo>
                  <a:pt x="12857" y="17368"/>
                  <a:pt x="12772" y="17456"/>
                  <a:pt x="12948" y="17388"/>
                </a:cubicBezTo>
              </a:path>
              <a:path w="4763" h="4019">
                <a:moveTo>
                  <a:pt x="13271" y="16892"/>
                </a:moveTo>
                <a:cubicBezTo>
                  <a:pt x="13169" y="16964"/>
                  <a:pt x="13032" y="17139"/>
                  <a:pt x="13047" y="17289"/>
                </a:cubicBezTo>
                <a:cubicBezTo>
                  <a:pt x="13071" y="17530"/>
                  <a:pt x="13414" y="17425"/>
                  <a:pt x="13494" y="17289"/>
                </a:cubicBezTo>
                <a:cubicBezTo>
                  <a:pt x="13556" y="17184"/>
                  <a:pt x="13534" y="16965"/>
                  <a:pt x="13395" y="16942"/>
                </a:cubicBezTo>
                <a:cubicBezTo>
                  <a:pt x="13362" y="16942"/>
                  <a:pt x="13328" y="16942"/>
                  <a:pt x="13295" y="16942"/>
                </a:cubicBezTo>
              </a:path>
              <a:path w="4763" h="4019">
                <a:moveTo>
                  <a:pt x="10716" y="17115"/>
                </a:moveTo>
                <a:cubicBezTo>
                  <a:pt x="10823" y="17115"/>
                  <a:pt x="10865" y="17019"/>
                  <a:pt x="10988" y="17016"/>
                </a:cubicBezTo>
                <a:cubicBezTo>
                  <a:pt x="11227" y="17009"/>
                  <a:pt x="10927" y="17281"/>
                  <a:pt x="10889" y="17314"/>
                </a:cubicBezTo>
                <a:cubicBezTo>
                  <a:pt x="10881" y="17322"/>
                  <a:pt x="10872" y="17330"/>
                  <a:pt x="10864" y="17338"/>
                </a:cubicBezTo>
                <a:cubicBezTo>
                  <a:pt x="10982" y="17253"/>
                  <a:pt x="11054" y="17360"/>
                  <a:pt x="11112" y="17462"/>
                </a:cubicBezTo>
                <a:cubicBezTo>
                  <a:pt x="11080" y="17490"/>
                  <a:pt x="10812" y="17728"/>
                  <a:pt x="10765" y="17611"/>
                </a:cubicBezTo>
                <a:cubicBezTo>
                  <a:pt x="10765" y="17578"/>
                  <a:pt x="10765" y="17545"/>
                  <a:pt x="10765" y="17512"/>
                </a:cubicBezTo>
              </a:path>
              <a:path w="4763" h="4019">
                <a:moveTo>
                  <a:pt x="11683" y="16917"/>
                </a:moveTo>
                <a:cubicBezTo>
                  <a:pt x="11683" y="17027"/>
                  <a:pt x="11684" y="17158"/>
                  <a:pt x="11708" y="17264"/>
                </a:cubicBezTo>
                <a:cubicBezTo>
                  <a:pt x="11716" y="17281"/>
                  <a:pt x="11725" y="17297"/>
                  <a:pt x="11733" y="17314"/>
                </a:cubicBezTo>
              </a:path>
              <a:path w="4763" h="4019">
                <a:moveTo>
                  <a:pt x="11485" y="17165"/>
                </a:moveTo>
                <a:cubicBezTo>
                  <a:pt x="11623" y="17140"/>
                  <a:pt x="11767" y="17102"/>
                  <a:pt x="11906" y="17090"/>
                </a:cubicBezTo>
                <a:cubicBezTo>
                  <a:pt x="11914" y="17090"/>
                  <a:pt x="11923" y="17090"/>
                  <a:pt x="11931" y="17090"/>
                </a:cubicBezTo>
              </a:path>
              <a:path w="4763" h="4019">
                <a:moveTo>
                  <a:pt x="11410" y="17686"/>
                </a:moveTo>
                <a:cubicBezTo>
                  <a:pt x="11410" y="17760"/>
                  <a:pt x="11410" y="17835"/>
                  <a:pt x="11410" y="17909"/>
                </a:cubicBezTo>
                <a:cubicBezTo>
                  <a:pt x="11702" y="17864"/>
                  <a:pt x="11980" y="17730"/>
                  <a:pt x="12278" y="17686"/>
                </a:cubicBezTo>
                <a:cubicBezTo>
                  <a:pt x="12329" y="17678"/>
                  <a:pt x="12460" y="17713"/>
                  <a:pt x="12477" y="17661"/>
                </a:cubicBezTo>
                <a:cubicBezTo>
                  <a:pt x="12497" y="17600"/>
                  <a:pt x="12502" y="17572"/>
                  <a:pt x="12502" y="17512"/>
                </a:cubicBezTo>
              </a:path>
              <a:path w="4763" h="4019">
                <a:moveTo>
                  <a:pt x="11683" y="18207"/>
                </a:moveTo>
                <a:cubicBezTo>
                  <a:pt x="11753" y="18113"/>
                  <a:pt x="11893" y="18193"/>
                  <a:pt x="11931" y="18306"/>
                </a:cubicBezTo>
                <a:cubicBezTo>
                  <a:pt x="12006" y="18531"/>
                  <a:pt x="11709" y="18650"/>
                  <a:pt x="11559" y="18703"/>
                </a:cubicBezTo>
                <a:cubicBezTo>
                  <a:pt x="11559" y="18571"/>
                  <a:pt x="11691" y="18458"/>
                  <a:pt x="11857" y="18479"/>
                </a:cubicBezTo>
                <a:cubicBezTo>
                  <a:pt x="12029" y="18501"/>
                  <a:pt x="11926" y="18595"/>
                  <a:pt x="12080" y="18579"/>
                </a:cubicBezTo>
              </a:path>
              <a:path w="4763" h="4019">
                <a:moveTo>
                  <a:pt x="12154" y="18058"/>
                </a:moveTo>
                <a:cubicBezTo>
                  <a:pt x="12245" y="18035"/>
                  <a:pt x="12566" y="17961"/>
                  <a:pt x="12452" y="18182"/>
                </a:cubicBezTo>
                <a:cubicBezTo>
                  <a:pt x="12389" y="18245"/>
                  <a:pt x="12379" y="18262"/>
                  <a:pt x="12328" y="18281"/>
                </a:cubicBezTo>
                <a:cubicBezTo>
                  <a:pt x="12397" y="18258"/>
                  <a:pt x="12582" y="18150"/>
                  <a:pt x="12626" y="18306"/>
                </a:cubicBezTo>
                <a:cubicBezTo>
                  <a:pt x="12686" y="18519"/>
                  <a:pt x="12395" y="18673"/>
                  <a:pt x="12229" y="18678"/>
                </a:cubicBezTo>
                <a:cubicBezTo>
                  <a:pt x="12212" y="18670"/>
                  <a:pt x="12196" y="18661"/>
                  <a:pt x="12179" y="18653"/>
                </a:cubicBezTo>
              </a:path>
              <a:path w="4763" h="4019">
                <a:moveTo>
                  <a:pt x="11361" y="18926"/>
                </a:moveTo>
                <a:cubicBezTo>
                  <a:pt x="11645" y="18926"/>
                  <a:pt x="11953" y="18960"/>
                  <a:pt x="12229" y="18901"/>
                </a:cubicBezTo>
              </a:path>
              <a:path w="4763" h="4019">
                <a:moveTo>
                  <a:pt x="11336" y="18827"/>
                </a:moveTo>
                <a:cubicBezTo>
                  <a:pt x="11293" y="18760"/>
                  <a:pt x="11264" y="18705"/>
                  <a:pt x="11237" y="18628"/>
                </a:cubicBezTo>
                <a:cubicBezTo>
                  <a:pt x="11195" y="18507"/>
                  <a:pt x="11216" y="18416"/>
                  <a:pt x="11286" y="18306"/>
                </a:cubicBezTo>
                <a:cubicBezTo>
                  <a:pt x="11395" y="18133"/>
                  <a:pt x="11583" y="18051"/>
                  <a:pt x="11757" y="17959"/>
                </a:cubicBezTo>
                <a:cubicBezTo>
                  <a:pt x="11922" y="17872"/>
                  <a:pt x="12140" y="17782"/>
                  <a:pt x="12328" y="17760"/>
                </a:cubicBezTo>
                <a:cubicBezTo>
                  <a:pt x="12503" y="17739"/>
                  <a:pt x="12679" y="17771"/>
                  <a:pt x="12849" y="17810"/>
                </a:cubicBezTo>
                <a:cubicBezTo>
                  <a:pt x="13020" y="17849"/>
                  <a:pt x="13040" y="17973"/>
                  <a:pt x="13047" y="18132"/>
                </a:cubicBezTo>
                <a:cubicBezTo>
                  <a:pt x="13056" y="18337"/>
                  <a:pt x="12973" y="18470"/>
                  <a:pt x="12824" y="18604"/>
                </a:cubicBezTo>
                <a:cubicBezTo>
                  <a:pt x="12658" y="18753"/>
                  <a:pt x="12457" y="18861"/>
                  <a:pt x="12254" y="18951"/>
                </a:cubicBezTo>
                <a:cubicBezTo>
                  <a:pt x="12163" y="18987"/>
                  <a:pt x="12158" y="19003"/>
                  <a:pt x="12105" y="190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Objective:  Students will apply the Order of Operations to correctly evaluate expressions.</a:t>
            </a:r>
            <a:endParaRPr b="1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38088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"/>
              </a:rPr>
              <a:t>Symbols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Palatino"/>
              </a:rPr>
              <a:t>There are multiple symbols that may be used to indicate an operation…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"/>
              </a:rPr>
              <a:t>Multiplicat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Division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÷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6" name=""/>
          <p:cNvSpPr/>
          <p:nvPr/>
        </p:nvSpPr>
        <p:spPr>
          <a:xfrm>
            <a:off x="411120" y="2133720"/>
            <a:ext cx="2044800" cy="171360"/>
          </a:xfrm>
          <a:custGeom>
            <a:avLst/>
            <a:gdLst/>
            <a:ahLst/>
            <a:rect l="l" t="t" r="r" b="b"/>
            <a:pathLst>
              <a:path w="5681" h="473">
                <a:moveTo>
                  <a:pt x="1141" y="5928"/>
                </a:moveTo>
                <a:cubicBezTo>
                  <a:pt x="1162" y="6042"/>
                  <a:pt x="1150" y="6257"/>
                  <a:pt x="1215" y="6350"/>
                </a:cubicBezTo>
                <a:cubicBezTo>
                  <a:pt x="1240" y="6358"/>
                  <a:pt x="1265" y="6367"/>
                  <a:pt x="1290" y="6375"/>
                </a:cubicBezTo>
                <a:cubicBezTo>
                  <a:pt x="1417" y="6296"/>
                  <a:pt x="1475" y="6258"/>
                  <a:pt x="1563" y="6102"/>
                </a:cubicBezTo>
                <a:cubicBezTo>
                  <a:pt x="1579" y="6181"/>
                  <a:pt x="1559" y="6321"/>
                  <a:pt x="1637" y="6375"/>
                </a:cubicBezTo>
                <a:cubicBezTo>
                  <a:pt x="1777" y="6472"/>
                  <a:pt x="1929" y="6315"/>
                  <a:pt x="2034" y="6251"/>
                </a:cubicBezTo>
                <a:cubicBezTo>
                  <a:pt x="2081" y="6309"/>
                  <a:pt x="2073" y="6414"/>
                  <a:pt x="2208" y="6400"/>
                </a:cubicBezTo>
                <a:cubicBezTo>
                  <a:pt x="2395" y="6381"/>
                  <a:pt x="2488" y="6234"/>
                  <a:pt x="2580" y="6127"/>
                </a:cubicBezTo>
                <a:cubicBezTo>
                  <a:pt x="2639" y="6198"/>
                  <a:pt x="2648" y="6310"/>
                  <a:pt x="2778" y="6300"/>
                </a:cubicBezTo>
                <a:cubicBezTo>
                  <a:pt x="2910" y="6290"/>
                  <a:pt x="3041" y="6169"/>
                  <a:pt x="3125" y="6102"/>
                </a:cubicBezTo>
                <a:cubicBezTo>
                  <a:pt x="3220" y="6205"/>
                  <a:pt x="3275" y="6270"/>
                  <a:pt x="3448" y="6251"/>
                </a:cubicBezTo>
                <a:cubicBezTo>
                  <a:pt x="3673" y="6226"/>
                  <a:pt x="3622" y="6187"/>
                  <a:pt x="3770" y="6077"/>
                </a:cubicBezTo>
                <a:cubicBezTo>
                  <a:pt x="3815" y="6218"/>
                  <a:pt x="3804" y="6323"/>
                  <a:pt x="3994" y="6300"/>
                </a:cubicBezTo>
                <a:cubicBezTo>
                  <a:pt x="4156" y="6280"/>
                  <a:pt x="4287" y="6165"/>
                  <a:pt x="4415" y="6077"/>
                </a:cubicBezTo>
                <a:cubicBezTo>
                  <a:pt x="4481" y="6178"/>
                  <a:pt x="4467" y="6293"/>
                  <a:pt x="4638" y="6325"/>
                </a:cubicBezTo>
                <a:cubicBezTo>
                  <a:pt x="4894" y="6373"/>
                  <a:pt x="4986" y="6226"/>
                  <a:pt x="5135" y="6077"/>
                </a:cubicBezTo>
                <a:cubicBezTo>
                  <a:pt x="5151" y="6228"/>
                  <a:pt x="5117" y="6343"/>
                  <a:pt x="5333" y="6300"/>
                </a:cubicBezTo>
                <a:cubicBezTo>
                  <a:pt x="5501" y="6267"/>
                  <a:pt x="5580" y="6149"/>
                  <a:pt x="5705" y="6052"/>
                </a:cubicBezTo>
                <a:cubicBezTo>
                  <a:pt x="5719" y="6114"/>
                  <a:pt x="5708" y="6269"/>
                  <a:pt x="5779" y="6300"/>
                </a:cubicBezTo>
                <a:cubicBezTo>
                  <a:pt x="5956" y="6377"/>
                  <a:pt x="6225" y="6210"/>
                  <a:pt x="6375" y="6152"/>
                </a:cubicBezTo>
                <a:cubicBezTo>
                  <a:pt x="6385" y="6233"/>
                  <a:pt x="6365" y="6386"/>
                  <a:pt x="6524" y="6375"/>
                </a:cubicBezTo>
                <a:cubicBezTo>
                  <a:pt x="6646" y="6367"/>
                  <a:pt x="6725" y="6282"/>
                  <a:pt x="6821" y="62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08080" y="3544920"/>
            <a:ext cx="2544840" cy="795240"/>
          </a:xfrm>
          <a:custGeom>
            <a:avLst/>
            <a:gdLst/>
            <a:ahLst/>
            <a:rect l="l" t="t" r="r" b="b"/>
            <a:pathLst>
              <a:path w="7070" h="2209">
                <a:moveTo>
                  <a:pt x="3994" y="10988"/>
                </a:moveTo>
                <a:cubicBezTo>
                  <a:pt x="3994" y="10949"/>
                  <a:pt x="3968" y="10892"/>
                  <a:pt x="3919" y="10964"/>
                </a:cubicBezTo>
                <a:cubicBezTo>
                  <a:pt x="3847" y="11070"/>
                  <a:pt x="3919" y="11080"/>
                  <a:pt x="3994" y="11038"/>
                </a:cubicBezTo>
                <a:cubicBezTo>
                  <a:pt x="4077" y="10992"/>
                  <a:pt x="3991" y="10942"/>
                  <a:pt x="3944" y="10939"/>
                </a:cubicBezTo>
                <a:cubicBezTo>
                  <a:pt x="3907" y="10937"/>
                  <a:pt x="3787" y="11003"/>
                  <a:pt x="3870" y="11038"/>
                </a:cubicBezTo>
                <a:cubicBezTo>
                  <a:pt x="3940" y="11067"/>
                  <a:pt x="3999" y="11001"/>
                  <a:pt x="3944" y="10939"/>
                </a:cubicBezTo>
                <a:cubicBezTo>
                  <a:pt x="3936" y="10939"/>
                  <a:pt x="3927" y="10939"/>
                  <a:pt x="3919" y="10939"/>
                </a:cubicBezTo>
                <a:cubicBezTo>
                  <a:pt x="3867" y="10965"/>
                  <a:pt x="3850" y="11063"/>
                  <a:pt x="3944" y="11063"/>
                </a:cubicBezTo>
                <a:cubicBezTo>
                  <a:pt x="4023" y="11063"/>
                  <a:pt x="4039" y="10967"/>
                  <a:pt x="3994" y="10939"/>
                </a:cubicBezTo>
                <a:cubicBezTo>
                  <a:pt x="3916" y="10891"/>
                  <a:pt x="3851" y="10943"/>
                  <a:pt x="3870" y="11038"/>
                </a:cubicBezTo>
                <a:cubicBezTo>
                  <a:pt x="3892" y="11144"/>
                  <a:pt x="4012" y="11003"/>
                  <a:pt x="4018" y="10988"/>
                </a:cubicBezTo>
                <a:cubicBezTo>
                  <a:pt x="4050" y="10901"/>
                  <a:pt x="3925" y="10893"/>
                  <a:pt x="3894" y="10964"/>
                </a:cubicBezTo>
                <a:cubicBezTo>
                  <a:pt x="3860" y="11040"/>
                  <a:pt x="3998" y="11099"/>
                  <a:pt x="4043" y="11038"/>
                </a:cubicBezTo>
                <a:cubicBezTo>
                  <a:pt x="4089" y="10975"/>
                  <a:pt x="4007" y="10892"/>
                  <a:pt x="3944" y="10939"/>
                </a:cubicBezTo>
                <a:cubicBezTo>
                  <a:pt x="3901" y="10972"/>
                  <a:pt x="3919" y="11044"/>
                  <a:pt x="3919" y="11088"/>
                </a:cubicBezTo>
                <a:cubicBezTo>
                  <a:pt x="3944" y="11083"/>
                  <a:pt x="4113" y="11040"/>
                  <a:pt x="4068" y="10964"/>
                </a:cubicBezTo>
                <a:cubicBezTo>
                  <a:pt x="4028" y="10897"/>
                  <a:pt x="3889" y="10945"/>
                  <a:pt x="3894" y="11013"/>
                </a:cubicBezTo>
                <a:cubicBezTo>
                  <a:pt x="3901" y="11112"/>
                  <a:pt x="4039" y="11066"/>
                  <a:pt x="4068" y="11013"/>
                </a:cubicBezTo>
                <a:cubicBezTo>
                  <a:pt x="4102" y="10951"/>
                  <a:pt x="3958" y="10931"/>
                  <a:pt x="3919" y="10964"/>
                </a:cubicBezTo>
                <a:cubicBezTo>
                  <a:pt x="3843" y="11029"/>
                  <a:pt x="3928" y="11081"/>
                  <a:pt x="3994" y="11063"/>
                </a:cubicBezTo>
                <a:cubicBezTo>
                  <a:pt x="4090" y="11037"/>
                  <a:pt x="4019" y="10880"/>
                  <a:pt x="3969" y="10939"/>
                </a:cubicBezTo>
                <a:cubicBezTo>
                  <a:pt x="3947" y="11004"/>
                  <a:pt x="3939" y="11019"/>
                  <a:pt x="3944" y="11063"/>
                </a:cubicBezTo>
              </a:path>
              <a:path w="7070" h="2209">
                <a:moveTo>
                  <a:pt x="3944" y="11038"/>
                </a:moveTo>
                <a:cubicBezTo>
                  <a:pt x="3915" y="10950"/>
                  <a:pt x="3898" y="11101"/>
                  <a:pt x="3894" y="11137"/>
                </a:cubicBezTo>
                <a:cubicBezTo>
                  <a:pt x="3935" y="11125"/>
                  <a:pt x="4075" y="11091"/>
                  <a:pt x="4068" y="11013"/>
                </a:cubicBezTo>
                <a:cubicBezTo>
                  <a:pt x="4061" y="10934"/>
                  <a:pt x="3962" y="10978"/>
                  <a:pt x="3944" y="11013"/>
                </a:cubicBezTo>
                <a:cubicBezTo>
                  <a:pt x="3866" y="11169"/>
                  <a:pt x="4022" y="11066"/>
                  <a:pt x="4068" y="11013"/>
                </a:cubicBezTo>
                <a:cubicBezTo>
                  <a:pt x="4141" y="10929"/>
                  <a:pt x="3997" y="10916"/>
                  <a:pt x="3944" y="10964"/>
                </a:cubicBezTo>
                <a:cubicBezTo>
                  <a:pt x="3848" y="11052"/>
                  <a:pt x="4013" y="11154"/>
                  <a:pt x="4068" y="11063"/>
                </a:cubicBezTo>
                <a:cubicBezTo>
                  <a:pt x="4125" y="10968"/>
                  <a:pt x="4032" y="10884"/>
                  <a:pt x="3944" y="10939"/>
                </a:cubicBezTo>
                <a:cubicBezTo>
                  <a:pt x="3927" y="10955"/>
                  <a:pt x="3911" y="10972"/>
                  <a:pt x="3894" y="10988"/>
                </a:cubicBezTo>
                <a:cubicBezTo>
                  <a:pt x="3924" y="11140"/>
                  <a:pt x="4000" y="11088"/>
                  <a:pt x="4118" y="11013"/>
                </a:cubicBezTo>
                <a:cubicBezTo>
                  <a:pt x="4117" y="10928"/>
                  <a:pt x="3974" y="10894"/>
                  <a:pt x="3894" y="10988"/>
                </a:cubicBezTo>
                <a:cubicBezTo>
                  <a:pt x="3807" y="11090"/>
                  <a:pt x="3932" y="11215"/>
                  <a:pt x="4043" y="11137"/>
                </a:cubicBezTo>
                <a:cubicBezTo>
                  <a:pt x="4119" y="11084"/>
                  <a:pt x="4096" y="11001"/>
                  <a:pt x="4068" y="10964"/>
                </a:cubicBezTo>
                <a:cubicBezTo>
                  <a:pt x="4046" y="10973"/>
                  <a:pt x="3810" y="11068"/>
                  <a:pt x="3919" y="11112"/>
                </a:cubicBezTo>
                <a:cubicBezTo>
                  <a:pt x="3964" y="11112"/>
                  <a:pt x="3977" y="11116"/>
                  <a:pt x="3994" y="11088"/>
                </a:cubicBezTo>
              </a:path>
              <a:path w="7070" h="2209">
                <a:moveTo>
                  <a:pt x="6474" y="11013"/>
                </a:moveTo>
                <a:cubicBezTo>
                  <a:pt x="6550" y="11013"/>
                  <a:pt x="6623" y="10999"/>
                  <a:pt x="6697" y="10988"/>
                </a:cubicBezTo>
                <a:cubicBezTo>
                  <a:pt x="6779" y="10976"/>
                  <a:pt x="6420" y="10964"/>
                  <a:pt x="6499" y="10988"/>
                </a:cubicBezTo>
                <a:cubicBezTo>
                  <a:pt x="6580" y="11015"/>
                  <a:pt x="6611" y="11024"/>
                  <a:pt x="6672" y="11013"/>
                </a:cubicBezTo>
                <a:cubicBezTo>
                  <a:pt x="6705" y="11013"/>
                  <a:pt x="6656" y="11013"/>
                  <a:pt x="6623" y="11013"/>
                </a:cubicBezTo>
                <a:cubicBezTo>
                  <a:pt x="6589" y="11010"/>
                  <a:pt x="6480" y="10970"/>
                  <a:pt x="6524" y="10988"/>
                </a:cubicBezTo>
                <a:cubicBezTo>
                  <a:pt x="6591" y="11017"/>
                  <a:pt x="6785" y="11053"/>
                  <a:pt x="6573" y="11013"/>
                </a:cubicBezTo>
                <a:cubicBezTo>
                  <a:pt x="6491" y="10997"/>
                  <a:pt x="6689" y="11027"/>
                  <a:pt x="6772" y="11038"/>
                </a:cubicBezTo>
                <a:cubicBezTo>
                  <a:pt x="6780" y="11038"/>
                  <a:pt x="6788" y="11038"/>
                  <a:pt x="6796" y="11038"/>
                </a:cubicBezTo>
                <a:cubicBezTo>
                  <a:pt x="6734" y="11038"/>
                  <a:pt x="6651" y="11040"/>
                  <a:pt x="6598" y="11013"/>
                </a:cubicBezTo>
                <a:cubicBezTo>
                  <a:pt x="6542" y="10985"/>
                  <a:pt x="6685" y="11020"/>
                  <a:pt x="6623" y="11013"/>
                </a:cubicBezTo>
                <a:cubicBezTo>
                  <a:pt x="6606" y="11013"/>
                  <a:pt x="6590" y="11013"/>
                  <a:pt x="6573" y="11013"/>
                </a:cubicBezTo>
              </a:path>
              <a:path w="7070" h="2209">
                <a:moveTo>
                  <a:pt x="6474" y="11063"/>
                </a:moveTo>
                <a:cubicBezTo>
                  <a:pt x="6552" y="11052"/>
                  <a:pt x="6618" y="11043"/>
                  <a:pt x="6697" y="11038"/>
                </a:cubicBezTo>
                <a:cubicBezTo>
                  <a:pt x="6601" y="11043"/>
                  <a:pt x="6519" y="11051"/>
                  <a:pt x="6424" y="11063"/>
                </a:cubicBezTo>
              </a:path>
              <a:path w="7070" h="2209">
                <a:moveTo>
                  <a:pt x="8855" y="11485"/>
                </a:moveTo>
                <a:cubicBezTo>
                  <a:pt x="8988" y="11503"/>
                  <a:pt x="9118" y="11496"/>
                  <a:pt x="9252" y="11509"/>
                </a:cubicBezTo>
                <a:cubicBezTo>
                  <a:pt x="9354" y="11519"/>
                  <a:pt x="9449" y="11559"/>
                  <a:pt x="9550" y="11559"/>
                </a:cubicBezTo>
                <a:cubicBezTo>
                  <a:pt x="9558" y="11559"/>
                  <a:pt x="9567" y="11559"/>
                  <a:pt x="9575" y="11559"/>
                </a:cubicBezTo>
                <a:cubicBezTo>
                  <a:pt x="9589" y="11602"/>
                  <a:pt x="9603" y="11574"/>
                  <a:pt x="9525" y="11559"/>
                </a:cubicBezTo>
                <a:cubicBezTo>
                  <a:pt x="9324" y="11521"/>
                  <a:pt x="9133" y="11469"/>
                  <a:pt x="8930" y="11460"/>
                </a:cubicBezTo>
                <a:cubicBezTo>
                  <a:pt x="8768" y="11453"/>
                  <a:pt x="8797" y="11476"/>
                  <a:pt x="8930" y="11460"/>
                </a:cubicBezTo>
                <a:cubicBezTo>
                  <a:pt x="9112" y="11439"/>
                  <a:pt x="9293" y="11420"/>
                  <a:pt x="9475" y="11410"/>
                </a:cubicBezTo>
                <a:cubicBezTo>
                  <a:pt x="9483" y="11410"/>
                  <a:pt x="9492" y="11410"/>
                  <a:pt x="9500" y="11410"/>
                </a:cubicBezTo>
              </a:path>
              <a:path w="7070" h="2209">
                <a:moveTo>
                  <a:pt x="8880" y="11485"/>
                </a:moveTo>
                <a:cubicBezTo>
                  <a:pt x="8994" y="11508"/>
                  <a:pt x="9112" y="11540"/>
                  <a:pt x="9227" y="11559"/>
                </a:cubicBezTo>
                <a:cubicBezTo>
                  <a:pt x="9352" y="11580"/>
                  <a:pt x="9497" y="11620"/>
                  <a:pt x="9624" y="11609"/>
                </a:cubicBezTo>
                <a:cubicBezTo>
                  <a:pt x="9748" y="11598"/>
                  <a:pt x="9833" y="11555"/>
                  <a:pt x="9922" y="11485"/>
                </a:cubicBezTo>
                <a:cubicBezTo>
                  <a:pt x="10079" y="11361"/>
                  <a:pt x="10123" y="11257"/>
                  <a:pt x="10120" y="11063"/>
                </a:cubicBezTo>
                <a:cubicBezTo>
                  <a:pt x="10118" y="10939"/>
                  <a:pt x="10072" y="10866"/>
                  <a:pt x="10021" y="10765"/>
                </a:cubicBezTo>
                <a:cubicBezTo>
                  <a:pt x="9980" y="10684"/>
                  <a:pt x="9934" y="10589"/>
                  <a:pt x="9872" y="10542"/>
                </a:cubicBezTo>
                <a:cubicBezTo>
                  <a:pt x="9856" y="10530"/>
                  <a:pt x="9833" y="10507"/>
                  <a:pt x="9798" y="10492"/>
                </a:cubicBezTo>
                <a:cubicBezTo>
                  <a:pt x="9724" y="10459"/>
                  <a:pt x="9630" y="10475"/>
                  <a:pt x="9550" y="10443"/>
                </a:cubicBezTo>
                <a:cubicBezTo>
                  <a:pt x="9405" y="10386"/>
                  <a:pt x="9305" y="10319"/>
                  <a:pt x="9153" y="10294"/>
                </a:cubicBezTo>
                <a:cubicBezTo>
                  <a:pt x="9083" y="10283"/>
                  <a:pt x="9015" y="10283"/>
                  <a:pt x="8954" y="10269"/>
                </a:cubicBezTo>
                <a:cubicBezTo>
                  <a:pt x="8804" y="10236"/>
                  <a:pt x="8658" y="10174"/>
                  <a:pt x="8508" y="10145"/>
                </a:cubicBezTo>
                <a:cubicBezTo>
                  <a:pt x="8410" y="10126"/>
                  <a:pt x="8311" y="10111"/>
                  <a:pt x="8210" y="10096"/>
                </a:cubicBezTo>
                <a:cubicBezTo>
                  <a:pt x="7894" y="10050"/>
                  <a:pt x="7589" y="9963"/>
                  <a:pt x="7268" y="9947"/>
                </a:cubicBezTo>
                <a:cubicBezTo>
                  <a:pt x="7046" y="9936"/>
                  <a:pt x="6818" y="9930"/>
                  <a:pt x="6598" y="9922"/>
                </a:cubicBezTo>
                <a:cubicBezTo>
                  <a:pt x="6439" y="9917"/>
                  <a:pt x="6285" y="9904"/>
                  <a:pt x="6127" y="9897"/>
                </a:cubicBezTo>
                <a:cubicBezTo>
                  <a:pt x="5942" y="9889"/>
                  <a:pt x="5764" y="9893"/>
                  <a:pt x="5581" y="9872"/>
                </a:cubicBezTo>
                <a:cubicBezTo>
                  <a:pt x="5441" y="9856"/>
                  <a:pt x="5301" y="9839"/>
                  <a:pt x="5159" y="9847"/>
                </a:cubicBezTo>
                <a:cubicBezTo>
                  <a:pt x="5031" y="9854"/>
                  <a:pt x="4890" y="9881"/>
                  <a:pt x="4762" y="9897"/>
                </a:cubicBezTo>
                <a:cubicBezTo>
                  <a:pt x="4571" y="9921"/>
                  <a:pt x="4384" y="9937"/>
                  <a:pt x="4192" y="9971"/>
                </a:cubicBezTo>
                <a:cubicBezTo>
                  <a:pt x="3999" y="10006"/>
                  <a:pt x="3886" y="10053"/>
                  <a:pt x="3721" y="10145"/>
                </a:cubicBezTo>
                <a:cubicBezTo>
                  <a:pt x="3544" y="10243"/>
                  <a:pt x="3363" y="10354"/>
                  <a:pt x="3225" y="10492"/>
                </a:cubicBezTo>
                <a:cubicBezTo>
                  <a:pt x="3145" y="10571"/>
                  <a:pt x="3097" y="10653"/>
                  <a:pt x="3076" y="10765"/>
                </a:cubicBezTo>
                <a:cubicBezTo>
                  <a:pt x="3048" y="10916"/>
                  <a:pt x="3092" y="11125"/>
                  <a:pt x="3150" y="11261"/>
                </a:cubicBezTo>
                <a:cubicBezTo>
                  <a:pt x="3270" y="11542"/>
                  <a:pt x="3479" y="11682"/>
                  <a:pt x="3770" y="11757"/>
                </a:cubicBezTo>
                <a:cubicBezTo>
                  <a:pt x="3897" y="11790"/>
                  <a:pt x="4012" y="11769"/>
                  <a:pt x="4142" y="11782"/>
                </a:cubicBezTo>
                <a:cubicBezTo>
                  <a:pt x="4356" y="11804"/>
                  <a:pt x="4572" y="11842"/>
                  <a:pt x="4787" y="11857"/>
                </a:cubicBezTo>
                <a:cubicBezTo>
                  <a:pt x="4944" y="11868"/>
                  <a:pt x="5103" y="11875"/>
                  <a:pt x="5259" y="11881"/>
                </a:cubicBezTo>
                <a:cubicBezTo>
                  <a:pt x="5457" y="11888"/>
                  <a:pt x="5659" y="11899"/>
                  <a:pt x="5854" y="11906"/>
                </a:cubicBezTo>
                <a:cubicBezTo>
                  <a:pt x="5997" y="11911"/>
                  <a:pt x="6135" y="11915"/>
                  <a:pt x="6276" y="11931"/>
                </a:cubicBezTo>
                <a:cubicBezTo>
                  <a:pt x="6408" y="11946"/>
                  <a:pt x="6540" y="11965"/>
                  <a:pt x="6672" y="11981"/>
                </a:cubicBezTo>
                <a:cubicBezTo>
                  <a:pt x="6789" y="11995"/>
                  <a:pt x="6902" y="11996"/>
                  <a:pt x="7020" y="12005"/>
                </a:cubicBezTo>
                <a:cubicBezTo>
                  <a:pt x="7176" y="12017"/>
                  <a:pt x="7333" y="12048"/>
                  <a:pt x="7491" y="12055"/>
                </a:cubicBezTo>
                <a:cubicBezTo>
                  <a:pt x="7585" y="12059"/>
                  <a:pt x="7654" y="12047"/>
                  <a:pt x="7739" y="12030"/>
                </a:cubicBezTo>
                <a:cubicBezTo>
                  <a:pt x="7838" y="12011"/>
                  <a:pt x="7935" y="11997"/>
                  <a:pt x="8037" y="11981"/>
                </a:cubicBezTo>
                <a:cubicBezTo>
                  <a:pt x="8184" y="11958"/>
                  <a:pt x="8333" y="11938"/>
                  <a:pt x="8483" y="11931"/>
                </a:cubicBezTo>
                <a:cubicBezTo>
                  <a:pt x="8602" y="11926"/>
                  <a:pt x="8714" y="11922"/>
                  <a:pt x="8830" y="11906"/>
                </a:cubicBezTo>
                <a:cubicBezTo>
                  <a:pt x="8977" y="11885"/>
                  <a:pt x="9128" y="11875"/>
                  <a:pt x="9277" y="11857"/>
                </a:cubicBezTo>
                <a:cubicBezTo>
                  <a:pt x="9385" y="11844"/>
                  <a:pt x="9490" y="11837"/>
                  <a:pt x="9599" y="11832"/>
                </a:cubicBezTo>
                <a:cubicBezTo>
                  <a:pt x="9674" y="11832"/>
                  <a:pt x="9698" y="11832"/>
                  <a:pt x="9748" y="118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14800" y="5759280"/>
            <a:ext cx="411120" cy="349560"/>
          </a:xfrm>
          <a:custGeom>
            <a:avLst/>
            <a:gdLst/>
            <a:ahLst/>
            <a:rect l="l" t="t" r="r" b="b"/>
            <a:pathLst>
              <a:path w="1142" h="968">
                <a:moveTo>
                  <a:pt x="8930" y="16942"/>
                </a:moveTo>
                <a:cubicBezTo>
                  <a:pt x="8954" y="16942"/>
                  <a:pt x="8962" y="16942"/>
                  <a:pt x="8954" y="16966"/>
                </a:cubicBezTo>
                <a:cubicBezTo>
                  <a:pt x="8991" y="16882"/>
                  <a:pt x="8979" y="16799"/>
                  <a:pt x="8979" y="16694"/>
                </a:cubicBezTo>
                <a:cubicBezTo>
                  <a:pt x="8979" y="16562"/>
                  <a:pt x="8971" y="16447"/>
                  <a:pt x="8954" y="16321"/>
                </a:cubicBezTo>
                <a:cubicBezTo>
                  <a:pt x="8948" y="16280"/>
                  <a:pt x="8931" y="16181"/>
                  <a:pt x="8930" y="16173"/>
                </a:cubicBezTo>
                <a:cubicBezTo>
                  <a:pt x="8930" y="16148"/>
                  <a:pt x="8930" y="16140"/>
                  <a:pt x="8930" y="16123"/>
                </a:cubicBezTo>
                <a:cubicBezTo>
                  <a:pt x="9133" y="16140"/>
                  <a:pt x="9320" y="16163"/>
                  <a:pt x="9525" y="16123"/>
                </a:cubicBezTo>
                <a:cubicBezTo>
                  <a:pt x="9678" y="16093"/>
                  <a:pt x="9885" y="15963"/>
                  <a:pt x="10046" y="15999"/>
                </a:cubicBezTo>
                <a:cubicBezTo>
                  <a:pt x="10087" y="16008"/>
                  <a:pt x="10048" y="16046"/>
                  <a:pt x="10046" y="160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14920" y="4705200"/>
            <a:ext cx="1160280" cy="1965600"/>
          </a:xfrm>
          <a:custGeom>
            <a:avLst/>
            <a:gdLst/>
            <a:ahLst/>
            <a:rect l="l" t="t" r="r" b="b"/>
            <a:pathLst>
              <a:path w="3225" h="5458">
                <a:moveTo>
                  <a:pt x="13593" y="13271"/>
                </a:moveTo>
                <a:cubicBezTo>
                  <a:pt x="13584" y="13305"/>
                  <a:pt x="13529" y="13336"/>
                  <a:pt x="13568" y="13320"/>
                </a:cubicBezTo>
                <a:cubicBezTo>
                  <a:pt x="13633" y="13288"/>
                  <a:pt x="13661" y="13268"/>
                  <a:pt x="13692" y="13221"/>
                </a:cubicBezTo>
                <a:cubicBezTo>
                  <a:pt x="13939" y="13397"/>
                  <a:pt x="13834" y="13608"/>
                  <a:pt x="13593" y="13791"/>
                </a:cubicBezTo>
                <a:cubicBezTo>
                  <a:pt x="13421" y="13922"/>
                  <a:pt x="13315" y="13955"/>
                  <a:pt x="13146" y="13891"/>
                </a:cubicBezTo>
                <a:cubicBezTo>
                  <a:pt x="13303" y="13694"/>
                  <a:pt x="13420" y="13661"/>
                  <a:pt x="13643" y="13816"/>
                </a:cubicBezTo>
                <a:cubicBezTo>
                  <a:pt x="13764" y="13900"/>
                  <a:pt x="13687" y="13919"/>
                  <a:pt x="13816" y="13841"/>
                </a:cubicBezTo>
              </a:path>
              <a:path w="3225" h="5458">
                <a:moveTo>
                  <a:pt x="14039" y="13146"/>
                </a:moveTo>
                <a:cubicBezTo>
                  <a:pt x="14235" y="13245"/>
                  <a:pt x="14364" y="13271"/>
                  <a:pt x="14585" y="13271"/>
                </a:cubicBezTo>
                <a:cubicBezTo>
                  <a:pt x="14593" y="13271"/>
                  <a:pt x="14602" y="13271"/>
                  <a:pt x="14610" y="13271"/>
                </a:cubicBezTo>
                <a:cubicBezTo>
                  <a:pt x="14570" y="13467"/>
                  <a:pt x="14511" y="13669"/>
                  <a:pt x="14461" y="13866"/>
                </a:cubicBezTo>
                <a:cubicBezTo>
                  <a:pt x="14441" y="13966"/>
                  <a:pt x="14443" y="13986"/>
                  <a:pt x="14412" y="14039"/>
                </a:cubicBezTo>
              </a:path>
              <a:path w="3225" h="5458">
                <a:moveTo>
                  <a:pt x="14957" y="13593"/>
                </a:moveTo>
                <a:cubicBezTo>
                  <a:pt x="15125" y="13593"/>
                  <a:pt x="15286" y="13578"/>
                  <a:pt x="15453" y="13568"/>
                </a:cubicBezTo>
                <a:cubicBezTo>
                  <a:pt x="15486" y="13568"/>
                  <a:pt x="15520" y="13568"/>
                  <a:pt x="15553" y="13568"/>
                </a:cubicBezTo>
              </a:path>
              <a:path w="3225" h="5458">
                <a:moveTo>
                  <a:pt x="16272" y="13469"/>
                </a:moveTo>
                <a:cubicBezTo>
                  <a:pt x="16342" y="13346"/>
                  <a:pt x="16311" y="13222"/>
                  <a:pt x="16197" y="13122"/>
                </a:cubicBezTo>
                <a:cubicBezTo>
                  <a:pt x="15991" y="12943"/>
                  <a:pt x="15848" y="13218"/>
                  <a:pt x="15825" y="13395"/>
                </a:cubicBezTo>
                <a:cubicBezTo>
                  <a:pt x="15791" y="13654"/>
                  <a:pt x="16036" y="13648"/>
                  <a:pt x="16173" y="13519"/>
                </a:cubicBezTo>
                <a:cubicBezTo>
                  <a:pt x="16238" y="13431"/>
                  <a:pt x="16258" y="13413"/>
                  <a:pt x="16272" y="13345"/>
                </a:cubicBezTo>
                <a:cubicBezTo>
                  <a:pt x="16272" y="13303"/>
                  <a:pt x="16272" y="13278"/>
                  <a:pt x="16272" y="13320"/>
                </a:cubicBezTo>
                <a:cubicBezTo>
                  <a:pt x="16262" y="13560"/>
                  <a:pt x="16247" y="13798"/>
                  <a:pt x="16247" y="14039"/>
                </a:cubicBezTo>
                <a:cubicBezTo>
                  <a:pt x="16247" y="14056"/>
                  <a:pt x="16247" y="14072"/>
                  <a:pt x="16247" y="14089"/>
                </a:cubicBezTo>
              </a:path>
              <a:path w="3225" h="5458">
                <a:moveTo>
                  <a:pt x="13345" y="15205"/>
                </a:moveTo>
                <a:cubicBezTo>
                  <a:pt x="13361" y="15142"/>
                  <a:pt x="13444" y="15076"/>
                  <a:pt x="13519" y="15106"/>
                </a:cubicBezTo>
                <a:cubicBezTo>
                  <a:pt x="13779" y="15211"/>
                  <a:pt x="13651" y="15593"/>
                  <a:pt x="13494" y="15726"/>
                </a:cubicBezTo>
                <a:cubicBezTo>
                  <a:pt x="13332" y="15863"/>
                  <a:pt x="13195" y="15823"/>
                  <a:pt x="13097" y="15677"/>
                </a:cubicBezTo>
                <a:cubicBezTo>
                  <a:pt x="13206" y="15579"/>
                  <a:pt x="13249" y="15577"/>
                  <a:pt x="13395" y="15577"/>
                </a:cubicBezTo>
                <a:cubicBezTo>
                  <a:pt x="13489" y="15577"/>
                  <a:pt x="13563" y="15602"/>
                  <a:pt x="13667" y="15602"/>
                </a:cubicBezTo>
                <a:cubicBezTo>
                  <a:pt x="13784" y="15602"/>
                  <a:pt x="13907" y="15645"/>
                  <a:pt x="13940" y="15528"/>
                </a:cubicBezTo>
              </a:path>
              <a:path w="3225" h="5458">
                <a:moveTo>
                  <a:pt x="13965" y="15156"/>
                </a:moveTo>
                <a:cubicBezTo>
                  <a:pt x="13957" y="15164"/>
                  <a:pt x="13948" y="15172"/>
                  <a:pt x="13940" y="15180"/>
                </a:cubicBezTo>
                <a:cubicBezTo>
                  <a:pt x="13940" y="15089"/>
                  <a:pt x="13912" y="15065"/>
                  <a:pt x="14015" y="15032"/>
                </a:cubicBezTo>
                <a:cubicBezTo>
                  <a:pt x="14172" y="14981"/>
                  <a:pt x="14350" y="14947"/>
                  <a:pt x="14511" y="14908"/>
                </a:cubicBezTo>
                <a:cubicBezTo>
                  <a:pt x="14519" y="14908"/>
                  <a:pt x="14528" y="14908"/>
                  <a:pt x="14536" y="14908"/>
                </a:cubicBezTo>
                <a:cubicBezTo>
                  <a:pt x="14509" y="15096"/>
                  <a:pt x="14488" y="15288"/>
                  <a:pt x="14461" y="15478"/>
                </a:cubicBezTo>
                <a:cubicBezTo>
                  <a:pt x="14442" y="15594"/>
                  <a:pt x="14433" y="15610"/>
                  <a:pt x="14436" y="15677"/>
                </a:cubicBezTo>
              </a:path>
              <a:path w="3225" h="5458">
                <a:moveTo>
                  <a:pt x="15156" y="14536"/>
                </a:moveTo>
                <a:cubicBezTo>
                  <a:pt x="15138" y="14617"/>
                  <a:pt x="15129" y="14629"/>
                  <a:pt x="15106" y="14709"/>
                </a:cubicBezTo>
                <a:cubicBezTo>
                  <a:pt x="15025" y="14997"/>
                  <a:pt x="14924" y="15314"/>
                  <a:pt x="14784" y="15577"/>
                </a:cubicBezTo>
                <a:cubicBezTo>
                  <a:pt x="14697" y="15741"/>
                  <a:pt x="14552" y="15950"/>
                  <a:pt x="14486" y="16098"/>
                </a:cubicBezTo>
                <a:cubicBezTo>
                  <a:pt x="14486" y="16073"/>
                  <a:pt x="14486" y="16065"/>
                  <a:pt x="14511" y="16073"/>
                </a:cubicBezTo>
              </a:path>
              <a:path w="3225" h="5458">
                <a:moveTo>
                  <a:pt x="15751" y="15106"/>
                </a:moveTo>
                <a:cubicBezTo>
                  <a:pt x="15795" y="15041"/>
                  <a:pt x="15839" y="14934"/>
                  <a:pt x="15776" y="14858"/>
                </a:cubicBezTo>
                <a:cubicBezTo>
                  <a:pt x="15682" y="14744"/>
                  <a:pt x="15495" y="14727"/>
                  <a:pt x="15404" y="14858"/>
                </a:cubicBezTo>
                <a:cubicBezTo>
                  <a:pt x="15311" y="14993"/>
                  <a:pt x="15296" y="15111"/>
                  <a:pt x="15304" y="15255"/>
                </a:cubicBezTo>
                <a:cubicBezTo>
                  <a:pt x="15477" y="15292"/>
                  <a:pt x="15583" y="15284"/>
                  <a:pt x="15701" y="15131"/>
                </a:cubicBezTo>
                <a:cubicBezTo>
                  <a:pt x="15752" y="15064"/>
                  <a:pt x="15739" y="15013"/>
                  <a:pt x="15801" y="14982"/>
                </a:cubicBezTo>
                <a:cubicBezTo>
                  <a:pt x="15764" y="15195"/>
                  <a:pt x="15726" y="15412"/>
                  <a:pt x="15701" y="15627"/>
                </a:cubicBezTo>
                <a:cubicBezTo>
                  <a:pt x="15701" y="15644"/>
                  <a:pt x="15701" y="15660"/>
                  <a:pt x="15701" y="15677"/>
                </a:cubicBezTo>
              </a:path>
              <a:path w="3225" h="5458">
                <a:moveTo>
                  <a:pt x="14089" y="16768"/>
                </a:moveTo>
                <a:cubicBezTo>
                  <a:pt x="14080" y="16759"/>
                  <a:pt x="14155" y="16692"/>
                  <a:pt x="14213" y="16694"/>
                </a:cubicBezTo>
                <a:cubicBezTo>
                  <a:pt x="14448" y="16703"/>
                  <a:pt x="14372" y="17051"/>
                  <a:pt x="14288" y="17165"/>
                </a:cubicBezTo>
                <a:cubicBezTo>
                  <a:pt x="14148" y="17355"/>
                  <a:pt x="13927" y="17409"/>
                  <a:pt x="13767" y="17289"/>
                </a:cubicBezTo>
                <a:cubicBezTo>
                  <a:pt x="13839" y="17119"/>
                  <a:pt x="13938" y="17106"/>
                  <a:pt x="14139" y="17140"/>
                </a:cubicBezTo>
                <a:cubicBezTo>
                  <a:pt x="14325" y="17171"/>
                  <a:pt x="14395" y="17224"/>
                  <a:pt x="14560" y="17140"/>
                </a:cubicBezTo>
              </a:path>
              <a:path w="3225" h="5458">
                <a:moveTo>
                  <a:pt x="14436" y="16644"/>
                </a:moveTo>
                <a:cubicBezTo>
                  <a:pt x="14533" y="16644"/>
                  <a:pt x="14641" y="16614"/>
                  <a:pt x="14734" y="16594"/>
                </a:cubicBezTo>
                <a:cubicBezTo>
                  <a:pt x="14808" y="16576"/>
                  <a:pt x="14815" y="16568"/>
                  <a:pt x="14858" y="16570"/>
                </a:cubicBezTo>
                <a:cubicBezTo>
                  <a:pt x="14858" y="16738"/>
                  <a:pt x="14821" y="16898"/>
                  <a:pt x="14808" y="17066"/>
                </a:cubicBezTo>
                <a:cubicBezTo>
                  <a:pt x="14808" y="17140"/>
                  <a:pt x="14808" y="17149"/>
                  <a:pt x="14808" y="17190"/>
                </a:cubicBezTo>
              </a:path>
              <a:path w="3225" h="5458">
                <a:moveTo>
                  <a:pt x="13395" y="17636"/>
                </a:moveTo>
                <a:cubicBezTo>
                  <a:pt x="13577" y="17607"/>
                  <a:pt x="13758" y="17567"/>
                  <a:pt x="13940" y="17537"/>
                </a:cubicBezTo>
                <a:cubicBezTo>
                  <a:pt x="14358" y="17469"/>
                  <a:pt x="14788" y="17473"/>
                  <a:pt x="15205" y="17413"/>
                </a:cubicBezTo>
                <a:cubicBezTo>
                  <a:pt x="15286" y="17401"/>
                  <a:pt x="15310" y="17373"/>
                  <a:pt x="15379" y="17363"/>
                </a:cubicBezTo>
              </a:path>
              <a:path w="3225" h="5458">
                <a:moveTo>
                  <a:pt x="14585" y="17859"/>
                </a:moveTo>
                <a:cubicBezTo>
                  <a:pt x="14551" y="17848"/>
                  <a:pt x="14509" y="17769"/>
                  <a:pt x="14461" y="17760"/>
                </a:cubicBezTo>
                <a:cubicBezTo>
                  <a:pt x="14381" y="17744"/>
                  <a:pt x="14227" y="17743"/>
                  <a:pt x="14163" y="17810"/>
                </a:cubicBezTo>
                <a:cubicBezTo>
                  <a:pt x="14071" y="17907"/>
                  <a:pt x="14064" y="18037"/>
                  <a:pt x="14139" y="18132"/>
                </a:cubicBezTo>
                <a:cubicBezTo>
                  <a:pt x="14230" y="18247"/>
                  <a:pt x="14441" y="18161"/>
                  <a:pt x="14536" y="18083"/>
                </a:cubicBezTo>
                <a:cubicBezTo>
                  <a:pt x="14589" y="18039"/>
                  <a:pt x="14585" y="17815"/>
                  <a:pt x="14585" y="17884"/>
                </a:cubicBezTo>
                <a:cubicBezTo>
                  <a:pt x="14585" y="17892"/>
                  <a:pt x="14585" y="17901"/>
                  <a:pt x="14585" y="17909"/>
                </a:cubicBezTo>
                <a:cubicBezTo>
                  <a:pt x="14573" y="18080"/>
                  <a:pt x="14581" y="18233"/>
                  <a:pt x="14585" y="18405"/>
                </a:cubicBezTo>
                <a:cubicBezTo>
                  <a:pt x="14587" y="18497"/>
                  <a:pt x="14601" y="18529"/>
                  <a:pt x="14585" y="185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4714920"/>
            <a:ext cx="920880" cy="1724040"/>
          </a:xfrm>
          <a:custGeom>
            <a:avLst/>
            <a:gdLst/>
            <a:ahLst/>
            <a:rect l="l" t="t" r="r" b="b"/>
            <a:pathLst>
              <a:path w="2556" h="4788">
                <a:moveTo>
                  <a:pt x="15255" y="13097"/>
                </a:moveTo>
                <a:cubicBezTo>
                  <a:pt x="15247" y="13122"/>
                  <a:pt x="15238" y="13146"/>
                  <a:pt x="15230" y="13171"/>
                </a:cubicBezTo>
              </a:path>
              <a:path w="2556" h="4788">
                <a:moveTo>
                  <a:pt x="15180" y="13965"/>
                </a:moveTo>
                <a:cubicBezTo>
                  <a:pt x="15172" y="13965"/>
                  <a:pt x="15164" y="13965"/>
                  <a:pt x="15156" y="13965"/>
                </a:cubicBezTo>
              </a:path>
              <a:path w="2556" h="4788">
                <a:moveTo>
                  <a:pt x="12700" y="17859"/>
                </a:moveTo>
                <a:cubicBezTo>
                  <a:pt x="12700" y="17867"/>
                  <a:pt x="12700" y="17876"/>
                  <a:pt x="12700" y="178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1760" y="3143160"/>
            <a:ext cx="2840040" cy="642960"/>
          </a:xfrm>
          <a:custGeom>
            <a:avLst/>
            <a:gdLst/>
            <a:ahLst/>
            <a:rect l="l" t="t" r="r" b="b"/>
            <a:pathLst>
              <a:path w="7889" h="1787">
                <a:moveTo>
                  <a:pt x="3125" y="8806"/>
                </a:moveTo>
                <a:cubicBezTo>
                  <a:pt x="3111" y="8802"/>
                  <a:pt x="3045" y="8766"/>
                  <a:pt x="3001" y="8756"/>
                </a:cubicBezTo>
                <a:cubicBezTo>
                  <a:pt x="2916" y="8737"/>
                  <a:pt x="2846" y="8732"/>
                  <a:pt x="2753" y="8731"/>
                </a:cubicBezTo>
                <a:cubicBezTo>
                  <a:pt x="2552" y="8728"/>
                  <a:pt x="2354" y="8733"/>
                  <a:pt x="2158" y="8756"/>
                </a:cubicBezTo>
                <a:cubicBezTo>
                  <a:pt x="2039" y="8770"/>
                  <a:pt x="1927" y="8780"/>
                  <a:pt x="1811" y="8806"/>
                </a:cubicBezTo>
                <a:cubicBezTo>
                  <a:pt x="1715" y="8828"/>
                  <a:pt x="1628" y="8853"/>
                  <a:pt x="1538" y="8905"/>
                </a:cubicBezTo>
                <a:cubicBezTo>
                  <a:pt x="1447" y="8958"/>
                  <a:pt x="1293" y="9090"/>
                  <a:pt x="1240" y="9178"/>
                </a:cubicBezTo>
                <a:cubicBezTo>
                  <a:pt x="1160" y="9311"/>
                  <a:pt x="1227" y="9384"/>
                  <a:pt x="1191" y="9525"/>
                </a:cubicBezTo>
                <a:cubicBezTo>
                  <a:pt x="1142" y="9720"/>
                  <a:pt x="1095" y="9714"/>
                  <a:pt x="1191" y="9872"/>
                </a:cubicBezTo>
                <a:cubicBezTo>
                  <a:pt x="1283" y="10024"/>
                  <a:pt x="1501" y="10071"/>
                  <a:pt x="1662" y="10120"/>
                </a:cubicBezTo>
                <a:cubicBezTo>
                  <a:pt x="1847" y="10176"/>
                  <a:pt x="2048" y="10226"/>
                  <a:pt x="2232" y="10269"/>
                </a:cubicBezTo>
                <a:cubicBezTo>
                  <a:pt x="2376" y="10303"/>
                  <a:pt x="2533" y="10334"/>
                  <a:pt x="2679" y="10344"/>
                </a:cubicBezTo>
                <a:cubicBezTo>
                  <a:pt x="2944" y="10362"/>
                  <a:pt x="3210" y="10380"/>
                  <a:pt x="3473" y="10393"/>
                </a:cubicBezTo>
                <a:cubicBezTo>
                  <a:pt x="3722" y="10405"/>
                  <a:pt x="3969" y="10396"/>
                  <a:pt x="4217" y="10418"/>
                </a:cubicBezTo>
                <a:cubicBezTo>
                  <a:pt x="4375" y="10432"/>
                  <a:pt x="4508" y="10422"/>
                  <a:pt x="4663" y="10418"/>
                </a:cubicBezTo>
                <a:cubicBezTo>
                  <a:pt x="4852" y="10414"/>
                  <a:pt x="5022" y="10442"/>
                  <a:pt x="5209" y="10468"/>
                </a:cubicBezTo>
                <a:cubicBezTo>
                  <a:pt x="5435" y="10499"/>
                  <a:pt x="5652" y="10514"/>
                  <a:pt x="5879" y="10517"/>
                </a:cubicBezTo>
                <a:cubicBezTo>
                  <a:pt x="6329" y="10522"/>
                  <a:pt x="6771" y="10492"/>
                  <a:pt x="7218" y="10443"/>
                </a:cubicBezTo>
                <a:cubicBezTo>
                  <a:pt x="7570" y="10404"/>
                  <a:pt x="7938" y="10354"/>
                  <a:pt x="8285" y="10294"/>
                </a:cubicBezTo>
                <a:cubicBezTo>
                  <a:pt x="8421" y="10271"/>
                  <a:pt x="8521" y="10225"/>
                  <a:pt x="8632" y="10145"/>
                </a:cubicBezTo>
                <a:cubicBezTo>
                  <a:pt x="8758" y="10054"/>
                  <a:pt x="8846" y="9970"/>
                  <a:pt x="8930" y="9847"/>
                </a:cubicBezTo>
                <a:cubicBezTo>
                  <a:pt x="8980" y="9775"/>
                  <a:pt x="8997" y="9724"/>
                  <a:pt x="8979" y="9649"/>
                </a:cubicBezTo>
                <a:cubicBezTo>
                  <a:pt x="8962" y="9576"/>
                  <a:pt x="8901" y="9453"/>
                  <a:pt x="8855" y="9401"/>
                </a:cubicBezTo>
                <a:cubicBezTo>
                  <a:pt x="8753" y="9287"/>
                  <a:pt x="8630" y="9211"/>
                  <a:pt x="8483" y="9153"/>
                </a:cubicBezTo>
                <a:cubicBezTo>
                  <a:pt x="8224" y="9050"/>
                  <a:pt x="7913" y="8965"/>
                  <a:pt x="7640" y="8905"/>
                </a:cubicBezTo>
                <a:cubicBezTo>
                  <a:pt x="7439" y="8861"/>
                  <a:pt x="7225" y="8837"/>
                  <a:pt x="7020" y="8830"/>
                </a:cubicBezTo>
                <a:cubicBezTo>
                  <a:pt x="6422" y="8810"/>
                  <a:pt x="5829" y="8856"/>
                  <a:pt x="5234" y="8781"/>
                </a:cubicBezTo>
                <a:cubicBezTo>
                  <a:pt x="4945" y="8745"/>
                  <a:pt x="4677" y="8768"/>
                  <a:pt x="4390" y="8781"/>
                </a:cubicBezTo>
                <a:cubicBezTo>
                  <a:pt x="4161" y="8791"/>
                  <a:pt x="3949" y="8785"/>
                  <a:pt x="3721" y="8781"/>
                </a:cubicBezTo>
                <a:cubicBezTo>
                  <a:pt x="3445" y="8776"/>
                  <a:pt x="3176" y="8799"/>
                  <a:pt x="2902" y="8830"/>
                </a:cubicBezTo>
                <a:cubicBezTo>
                  <a:pt x="2750" y="8847"/>
                  <a:pt x="2608" y="8851"/>
                  <a:pt x="2456" y="88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71720" y="4911840"/>
            <a:ext cx="250560" cy="44280"/>
          </a:xfrm>
          <a:custGeom>
            <a:avLst/>
            <a:gdLst/>
            <a:ahLst/>
            <a:rect l="l" t="t" r="r" b="b"/>
            <a:pathLst>
              <a:path w="695" h="125">
                <a:moveTo>
                  <a:pt x="3076" y="13767"/>
                </a:moveTo>
                <a:cubicBezTo>
                  <a:pt x="3209" y="13767"/>
                  <a:pt x="3366" y="13756"/>
                  <a:pt x="3497" y="13742"/>
                </a:cubicBezTo>
                <a:cubicBezTo>
                  <a:pt x="3777" y="13712"/>
                  <a:pt x="3561" y="13740"/>
                  <a:pt x="3448" y="13742"/>
                </a:cubicBezTo>
                <a:cubicBezTo>
                  <a:pt x="3291" y="13744"/>
                  <a:pt x="2919" y="13742"/>
                  <a:pt x="3076" y="13742"/>
                </a:cubicBezTo>
                <a:cubicBezTo>
                  <a:pt x="3242" y="13742"/>
                  <a:pt x="3688" y="13717"/>
                  <a:pt x="3522" y="13717"/>
                </a:cubicBezTo>
                <a:cubicBezTo>
                  <a:pt x="3341" y="13717"/>
                  <a:pt x="3160" y="13742"/>
                  <a:pt x="2977" y="13742"/>
                </a:cubicBezTo>
                <a:cubicBezTo>
                  <a:pt x="2785" y="13742"/>
                  <a:pt x="3358" y="13726"/>
                  <a:pt x="3547" y="13692"/>
                </a:cubicBezTo>
                <a:cubicBezTo>
                  <a:pt x="3703" y="13664"/>
                  <a:pt x="3234" y="13685"/>
                  <a:pt x="3076" y="13692"/>
                </a:cubicBezTo>
                <a:cubicBezTo>
                  <a:pt x="2919" y="13699"/>
                  <a:pt x="3340" y="13692"/>
                  <a:pt x="3497" y="13692"/>
                </a:cubicBezTo>
                <a:cubicBezTo>
                  <a:pt x="3647" y="13692"/>
                  <a:pt x="3350" y="13640"/>
                  <a:pt x="3200" y="13643"/>
                </a:cubicBezTo>
                <a:cubicBezTo>
                  <a:pt x="3141" y="13644"/>
                  <a:pt x="3017" y="13667"/>
                  <a:pt x="3076" y="13667"/>
                </a:cubicBezTo>
                <a:cubicBezTo>
                  <a:pt x="3264" y="13667"/>
                  <a:pt x="3506" y="13632"/>
                  <a:pt x="3671" y="13667"/>
                </a:cubicBezTo>
                <a:cubicBezTo>
                  <a:pt x="3456" y="13646"/>
                  <a:pt x="3241" y="13686"/>
                  <a:pt x="3026" y="13717"/>
                </a:cubicBezTo>
                <a:cubicBezTo>
                  <a:pt x="2819" y="13747"/>
                  <a:pt x="3441" y="13683"/>
                  <a:pt x="3646" y="13643"/>
                </a:cubicBezTo>
                <a:cubicBezTo>
                  <a:pt x="3809" y="13611"/>
                  <a:pt x="3314" y="13660"/>
                  <a:pt x="3150" y="13692"/>
                </a:cubicBezTo>
                <a:cubicBezTo>
                  <a:pt x="3051" y="13711"/>
                  <a:pt x="3504" y="13670"/>
                  <a:pt x="3522" y="13667"/>
                </a:cubicBezTo>
                <a:cubicBezTo>
                  <a:pt x="3759" y="13627"/>
                  <a:pt x="3280" y="13664"/>
                  <a:pt x="3249" y="13667"/>
                </a:cubicBezTo>
                <a:cubicBezTo>
                  <a:pt x="3159" y="13675"/>
                  <a:pt x="3332" y="13667"/>
                  <a:pt x="3423" y="13667"/>
                </a:cubicBezTo>
                <a:cubicBezTo>
                  <a:pt x="3440" y="13667"/>
                  <a:pt x="3456" y="13667"/>
                  <a:pt x="3473" y="136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Palatino"/>
              </a:rPr>
              <a:t>It’s Game Time!!!</a:t>
            </a:r>
            <a:endParaRPr b="1" lang="en-US" sz="60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429000" y="2895480"/>
            <a:ext cx="233856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Objective:  Students will apply the Order of Operations to correctly evaluate expressions.</a:t>
            </a:r>
            <a:r>
              <a:rPr b="1" lang="en-US" sz="3600" spc="-1" strike="noStrike">
                <a:solidFill>
                  <a:srgbClr val="6600ff"/>
                </a:solidFill>
                <a:latin typeface="Palatino"/>
              </a:rPr>
              <a:t> </a:t>
            </a:r>
            <a:br>
              <a:rPr sz="3600"/>
            </a:br>
            <a:r>
              <a:rPr b="1" lang="en-US" sz="2800" spc="-1" strike="noStrike">
                <a:solidFill>
                  <a:srgbClr val="6600ff"/>
                </a:solidFill>
                <a:latin typeface="Palatino"/>
              </a:rPr>
              <a:t>Matching Expressions Game</a:t>
            </a: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-360" y="1295280"/>
            <a:ext cx="8915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SvtyTwo ITC TT-Book"/>
              </a:rPr>
              <a:t>You will need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60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SvtyTwo ITC TT-Book"/>
              </a:rPr>
              <a:t>Journal</a:t>
            </a:r>
            <a:r>
              <a:rPr b="0" lang="en-US" sz="2000" spc="-1" strike="noStrike">
                <a:solidFill>
                  <a:srgbClr val="000000"/>
                </a:solidFill>
                <a:latin typeface="Bodoni SvtyTwo ITC TT-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doni SvtyTwo ITC TT-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doni SvtyTwo ITC TT-Book"/>
              </a:rPr>
              <a:t>Pencil</a:t>
            </a:r>
            <a:r>
              <a:rPr b="0" lang="en-US" sz="2000" spc="-1" strike="noStrike">
                <a:solidFill>
                  <a:srgbClr val="000000"/>
                </a:solidFill>
                <a:latin typeface="Bodoni SvtyTwo ITC TT-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doni SvtyTwo ITC TT-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doni SvtyTwo ITC TT-Book"/>
              </a:rPr>
              <a:t>Partner</a:t>
            </a:r>
            <a:r>
              <a:rPr b="0" lang="en-US" sz="2000" spc="-1" strike="noStrike">
                <a:solidFill>
                  <a:srgbClr val="000000"/>
                </a:solidFill>
                <a:latin typeface="Bodoni SvtyTwo ITC TT-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doni SvtyTwo ITC TT-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doni SvtyTwo ITC TT-Book"/>
              </a:rPr>
              <a:t>Set of expression card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60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SvtyTwo ITC TT-Book"/>
              </a:rPr>
              <a:t>Directions:  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6600ff"/>
              </a:buClr>
              <a:buSzPct val="70000"/>
              <a:buFont typeface="Bodoni SvtyTwo ITC TT-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SvtyTwo ITC TT-Book"/>
              </a:rPr>
              <a:t>Place the cards upside down on the desk in two rows (row 1 is expressions and row 2 is answers).  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6600ff"/>
              </a:buClr>
              <a:buSzPct val="70000"/>
              <a:buFont typeface="Bodoni SvtyTwo ITC TT-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SvtyTwo ITC TT-Book"/>
              </a:rPr>
              <a:t>Player 1 selects one card from each row, flips them over and evaluates the expression in his journal.  Player 2 uses the calculator to evaluate the expression to check player 1’s accuracy. 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6600ff"/>
              </a:buClr>
              <a:buSzPct val="70000"/>
              <a:buFont typeface="Bodoni SvtyTwo ITC TT-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SvtyTwo ITC TT-Book"/>
              </a:rPr>
              <a:t>If the expression and answer are a match, player 1 keeps them.  If not, they are turned back over.  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6600ff"/>
              </a:buClr>
              <a:buSzPct val="70000"/>
              <a:buFont typeface="Bodoni SvtyTwo ITC TT-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SvtyTwo ITC TT-Book"/>
              </a:rPr>
              <a:t>Now it is Player 2’s turn to work out the expression and Player 1 will check on the calculator.  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60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SvtyTwo ITC TT-Book"/>
              </a:rPr>
              <a:t>Continue play until all matches have been made.  (Be careful, the last person might find that their cards don’t match – can you find the problem?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60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SvtyTwo ITC TT-Book"/>
              </a:rPr>
              <a:t>The person with the most matches at the end of class is the winner.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Palatino"/>
              </a:rPr>
              <a:t>Homework</a:t>
            </a:r>
            <a:endParaRPr b="1" lang="en-US" sz="6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8" name=""/>
          <p:cNvSpPr/>
          <p:nvPr/>
        </p:nvSpPr>
        <p:spPr>
          <a:xfrm>
            <a:off x="1515600" y="2568600"/>
            <a:ext cx="6737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der of Operations Worksheet (Pick 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e Tuesday, September 14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01:54:09Z</dcterms:created>
  <dc:creator>Brian McGrath</dc:creator>
  <dc:description/>
  <dc:language>en-US</dc:language>
  <cp:lastModifiedBy>deanne mcgrath</cp:lastModifiedBy>
  <cp:lastPrinted>2009-09-02T02:45:08Z</cp:lastPrinted>
  <dcterms:modified xsi:type="dcterms:W3CDTF">2011-09-08T19:29:32Z</dcterms:modified>
  <cp:revision>8</cp:revision>
  <dc:subject/>
  <dc:title>Course #1 Objective:   Students will evaluate numeric expressions using the order of operations</dc:title>
</cp:coreProperties>
</file>